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D82-560E-47BE-BF5E-94A5C1B6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484-174E-4FAC-86D5-E95E72AE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02F-0FD3-4015-AE51-F80854E1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099-5C20-4CA2-B6DA-C4027DEB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0E1-FD5B-4291-AD01-596BC1F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1CC-3A61-4841-BE4B-D6783E3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55D-AA97-4821-9AE7-3DB8AE4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13F-CB17-4DB7-89C9-B684778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72D-DB65-4803-936F-B722380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211-2F3D-4269-B58F-ABEA8E1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F3B-E1D7-4A46-A67F-547E72C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4E0-C89A-44FC-980A-1019DC7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0DAE-AB74-4751-B56B-97A680BF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8280360" cy="236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Influence of proBNP Testing on Clinical Assessment by Heart Failure Special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cc"/>
                </a:solidFill>
                <a:latin typeface="Arial"/>
              </a:rPr>
              <a:t>Jones GRD, Macdonald P, Keogh A, Kotlyar E, Hayward C, Boscato 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cc"/>
                </a:solidFill>
                <a:latin typeface="Arial"/>
              </a:rPr>
              <a:t>Department of Chemical Pathology and Cardiology, St Vincent’s Hospital, Sydn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74720" cy="14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393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and Comment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15 proBNP results were provided for 126 patients over 13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429000"/>
            <a:ext cx="8677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Fewer than 20 samples per month were requested by these clinicians suggesting very targetted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and Comment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8816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34 patients had a single proBNP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6 had 2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3 had 3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 patients had 3 or more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560" y="4038480"/>
            <a:ext cx="86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5920" indent="-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A single tests was all that was required in many cases, although monitoring progress in patients was also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and comment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id pre- and post-test questionnaires were received for approximately 70% of th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440" y="3846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The information acquired is a reasonable representative sample of all requ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Test Questionna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esting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ssessment of cause of shortness of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ssessing severity of known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ssessing contribution of heart failure to symptoms in a complex pa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Other in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tails: eg NYH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s for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240" y="1600200"/>
            <a:ext cx="8751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s for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The majority of requests were for assessing severity of known heart fail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Expected finding given the clinicians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ext notes indicated a large number where proBNP was used to guide 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-test questionna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response to the proBNP result in this patient have yo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Supported your pre-test diagnosis /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Changed or modified your pre-test diagnosis or assess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Raised further diagnostic pos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Made a change in the management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 of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33305" b="0"/>
          <a:stretch/>
        </p:blipFill>
        <p:spPr>
          <a:xfrm>
            <a:off x="187200" y="1743120"/>
            <a:ext cx="58658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 of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7200" y="1743120"/>
            <a:ext cx="8794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 of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ProBNP testing changed diagnosis, assessment or management in a large proportion of pat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anagement was more likely to be changed after an initial test than after subsequent te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ProBNP concentrations correlate well with cardiac function and provide strong prognostic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Introduction of routine proBNP testing may have significant financial im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Unless proBNP results change clinical assessment or management, there will be little benefit provided by the tes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ment 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Increase in heart failure therapy (most com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duction i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hree patients were considered for either heart or lung transpla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“No” to question 4 (no change in plan) do you feel any change in your confidence in your pre-test management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ly more 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ly more 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Conf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32652" b="0"/>
          <a:stretch/>
        </p:blipFill>
        <p:spPr>
          <a:xfrm>
            <a:off x="115920" y="2122560"/>
            <a:ext cx="59529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Conf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5920" y="2122560"/>
            <a:ext cx="8839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Confi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ent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roBNP testing increased confidence in clinical decisions in the majority of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ing less confident may also be a usefu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5000" y="123948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ver 80% of the results were above the age and sex-related reference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his reflects the population being te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Decision points other than population reference intervals ma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oun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rong relationships were seen between proBNP results and age and ren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Comment: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Age and renal function must be taken into account. Serum creatinine should be measured with all requ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NP v eGF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en used by heart failure specialists, proBNP testing changed patient assessment and management in a significant proportion of c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en there was no change in patient management there was generally a greater confidence in the initial management pla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his study does not address patient outcomes but indicates that proBNP testing provides additional information which is considered important by heart failure specia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project was supported by a grant from the SydPath Research Fund and a donation of reagents from Roche Diagnostics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o assess whether the provision of a routine proBNP testing service leads to changes in the assessment and management of patients by heart failure special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nostic test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echnical quality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agnostic accuracy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hange in diagnost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ange in pati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hange in patient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st effectiveness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ybeck and Thornbury 199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 Doust AACB Hobart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9200" y="25146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45160" y="30481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 weekly service for proBNP testing was provided to four hospital-based heart failure special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proBNP was measured with a Roche Elecsys 2010 analys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he influence of the testing was assessed with pre- and post-test questionnair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he protocol was approved by the St Vincent’s Hospital Human Research Ethics Commit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</a:rPr>
              <a:t>Pre-test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Used as the request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Recorded the reason for the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Recorded pre-test clinical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</a:rPr>
              <a:t>Post-test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Provide the resu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gether with requestin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Reference interv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upporting interpretiv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Questions on effect of the test result on patient assessment and manag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1120" y="533160"/>
            <a:ext cx="8642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Reference Intervals (ng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- 50 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- 65 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 - 74 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2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+ 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6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values of proBNP in classes of heart failure (ng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en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en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HA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3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HA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9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HA III    1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,6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HA 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,7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45878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87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762440" y="0"/>
          <a:ext cx="4408560" cy="685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0"/>
                    <a:ext cx="440856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1:24:52Z</dcterms:created>
  <dc:creator>L&amp;GJones</dc:creator>
  <dc:description/>
  <dc:language>en-US</dc:language>
  <cp:lastModifiedBy>Graham Jones</cp:lastModifiedBy>
  <dcterms:modified xsi:type="dcterms:W3CDTF">2006-10-24T23:28:12Z</dcterms:modified>
  <cp:revision>9</cp:revision>
  <dc:subject/>
  <dc:title>INFLUENCE OF proBNP TESTING ON CLINICAL ASSESSMENT BY HEART FAILURE SPECIALISTS</dc:title>
</cp:coreProperties>
</file>