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gif" ContentType="image/gif"/>
  <Override PartName="/ppt/media/image10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093-74EB-4050-9E2A-F9701983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505-DF23-4B92-A3A9-A462D83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031-F609-4E9C-B21D-7FFA883C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7D0-A2C4-4411-B042-CADECF85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680-CD50-417F-8C3C-6D39EEA8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1B7-8515-49B7-BE7E-32856240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19D-71A8-42E6-93A9-199EA37E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1CD-C119-46C9-9007-51B26782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6EE-B557-467C-BDFE-C4AAA899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623-C01E-4067-91B2-1D823313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BA3-F96C-4BE4-B2DC-87EBD37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469-38B9-4C12-B29E-7FF8DD3E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C564-B3A0-4385-82F2-AF1409EB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45820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dium and Wa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Laboratory Scientists Ne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3860280"/>
            <a:ext cx="680076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ham J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Specialist in Chemical 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 Vincent’s Hospital, Syd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sented RCPA/AACB Chemical Pathology training Course, February 2004, Adela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2574720" cy="1424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51640" y="2781360"/>
            <a:ext cx="1393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and electrolytes: Other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ea, Creati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molality (and osmolar g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min, Tot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mol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392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25920"/>
            <a:ext cx="9144000" cy="939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dy Sodiu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dium: major extracellular 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pprox 10 mmol/L intracellu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140 mmol/L extracellular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ake: 100 - 200 mmol/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xcre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aecal: 10 mmol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weat: 10-20 mmol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nal: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rest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(ie matches inta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qually distributed in extracellular fl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e drain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xcept urine and gastro-intestinal flui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dium and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 and Water homeostasis are inextricably lin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sodium goes, water follow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sodiu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ected by changes in water and so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effects due to movement of water in and out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lt and Water reg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st (regulates in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sopressin (ADH) (regulates out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in-Angiotensin-Aldosterone (RA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riuretic pept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regulat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sopressin (AD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rmone from Posterior pitu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leased in response to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high osmol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leased in response to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low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ow volume over-rides low osmol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creases permeability of kidney distal tub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trols renal WATER ex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ow ADH -&gt; high urine volume, low urine o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igh ADH -&gt; low urine volume, high urine o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lso potent vasocontri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H="1">
            <a:off x="3124080" y="3575160"/>
            <a:ext cx="1997280" cy="18349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sopressin (AD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1711440"/>
            <a:ext cx="18237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30440" y="197496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29000" y="1676520"/>
            <a:ext cx="30733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pernatraemi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creased osmola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07160" y="25081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1920" y="3041640"/>
            <a:ext cx="1916640" cy="4597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H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07160" y="35751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8160" y="4683240"/>
            <a:ext cx="34419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renal water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7480" y="3041640"/>
            <a:ext cx="16956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54120" y="327024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0160" y="2185920"/>
            <a:ext cx="0" cy="849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8920" y="5410080"/>
            <a:ext cx="224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asocon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844280" y="3574800"/>
            <a:ext cx="746280" cy="1834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5680" y="5562720"/>
            <a:ext cx="17229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Euvola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31040" y="51753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1800" y="5562720"/>
            <a:ext cx="195912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centrat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5181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nin-angiotensin-aldosterone (RA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Low renal perfusion -&gt; renin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g hypovolaemia, heart failure, sh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nin converts Angiotensinogen to Angiotensi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CE converts AI to 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II releases Aldosterone from adrenal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ldosterone acts in proximal tub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sorbs sodium, excretes potas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trols urine SODIUM ex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flipH="1">
            <a:off x="4038480" y="2133720"/>
            <a:ext cx="1447920" cy="304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0" y="-25560"/>
            <a:ext cx="9144000" cy="1036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A Response to Dehyd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2280" y="1600200"/>
            <a:ext cx="182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6320" y="2438280"/>
            <a:ext cx="3483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Renal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057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2924280"/>
            <a:ext cx="0" cy="42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800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91440" y="1981080"/>
            <a:ext cx="224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asocon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743200" y="2438280"/>
            <a:ext cx="2743200" cy="18288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0920" y="5334120"/>
            <a:ext cx="34513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al Sodium re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0200" y="3352680"/>
            <a:ext cx="1935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enin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34440" y="6172200"/>
            <a:ext cx="1722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Euvola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06600" y="3352680"/>
            <a:ext cx="3467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ngiotensin I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120" y="4343400"/>
            <a:ext cx="2732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ldosteron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0280" y="4343400"/>
            <a:ext cx="3587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ngiotensin II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38386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33760" y="358128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523520" y="5819760"/>
            <a:ext cx="1800" cy="352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428640" y="457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6520" y="6172200"/>
            <a:ext cx="459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cr Plasma osmolality, ADH, th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00640" y="6400800"/>
            <a:ext cx="133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68320" y="4308480"/>
            <a:ext cx="891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695720" y="44956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73760" y="5334120"/>
            <a:ext cx="255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w urine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562720"/>
            <a:ext cx="1676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" y="-25920"/>
            <a:ext cx="9144000" cy="690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nal Water &amp; Sodium Hand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526000" cy="5562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2600" y="3429000"/>
            <a:ext cx="20368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tive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assiv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280" y="5562720"/>
            <a:ext cx="3239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odium on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no 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s dilute 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10760" y="3048120"/>
            <a:ext cx="2062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W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DH-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0160" y="914400"/>
            <a:ext cx="248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odium: 25 mol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ater: 150 L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8080" y="5791320"/>
            <a:ext cx="3452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Sodium: 100-200 mmol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66"/>
                </a:solidFill>
                <a:latin typeface="Times New Roman"/>
              </a:rPr>
              <a:t>Water: 1-2 L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514600" y="3885840"/>
            <a:ext cx="175248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990720"/>
            <a:ext cx="3071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od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dosterone-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10920" y="2133720"/>
            <a:ext cx="6046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-based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itional Mech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sponds to high osmolality and low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owerful but slow reg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atrurietic Pep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trial (ANP, atrium); Brain (BNP, ventri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spond to stretch (over fil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uses renal sodium and wate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Blocks RAA, causes vasod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arkers of heart failure, 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h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62400" y="194328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dium and Water bal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 norm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dium in = sodium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ater in = water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ith chan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ystems try to correc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g dehydration -&gt; water re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ith defects in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ther mechanisms try and correct de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g DI, thirst can correct body i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nical Derang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93520"/>
            <a:ext cx="7772400" cy="29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uch, too little, just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uch, too little just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ation leads to sodium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828800" y="4876920"/>
          <a:ext cx="5943600" cy="159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876920"/>
                    <a:ext cx="594360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dium - Clinical Eff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ypernatraemia - draws water out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yponatraemia - water drawn into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ain effects on brain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&gt;160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witching, siezures, 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&gt;150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eakness, letha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&lt;130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ausea, drow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&lt;120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vomiting,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&lt;110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vulsions, 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epends on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t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of change and other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onatra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87640" y="2455920"/>
            <a:ext cx="34560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onatraemia: Important Diagno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00000" y="1447560"/>
            <a:ext cx="6048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son’s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yroid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r fail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40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onatraemia diagn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4680" y="1066680"/>
            <a:ext cx="15462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yponatr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800" y="2438280"/>
            <a:ext cx="2428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asure plasma osmol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7760" y="3133800"/>
            <a:ext cx="2032560" cy="131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Drip-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Pseudohyponatraem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Hyperlipid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Hyperprotein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6080" y="3147840"/>
            <a:ext cx="18648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e Hyponatr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6800" y="3130560"/>
            <a:ext cx="294084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pertonic Hyponatraem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yperglyc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yperglycinaemia (post TU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360" y="4454640"/>
            <a:ext cx="33825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asure Urine Sodium and osmolalit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 of hyd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66440" y="5475240"/>
            <a:ext cx="2468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rine sodium &gt;20 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38240" y="5475240"/>
            <a:ext cx="2468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rine sodium &lt;20 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290664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290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90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779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52498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524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524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35480" y="39988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504684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600696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08480" y="600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600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17760" y="580392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1600200"/>
            <a:ext cx="20588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clude common drugs, eg diur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1409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867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0" y="-25560"/>
            <a:ext cx="9144000" cy="517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onatraemia diagn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38360" y="1098720"/>
            <a:ext cx="15462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yponatr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33800" y="2819520"/>
            <a:ext cx="2428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asure plasma osmol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87760" y="3514680"/>
            <a:ext cx="2032560" cy="131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Drip-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Pseudohyponatraem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Hyperlipid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Hyperprotein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56080" y="3529080"/>
            <a:ext cx="18648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e Hyponatr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6800" y="3511440"/>
            <a:ext cx="294084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pertonic Hyponatraem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yperglyc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yperglycinaemia (post TU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360" y="4835520"/>
            <a:ext cx="33825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asure Urine Sodium and osmolalit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 of hyd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66440" y="5856120"/>
            <a:ext cx="2468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rine sodium &gt;20 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38240" y="5856120"/>
            <a:ext cx="2468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rine sodium &lt;20 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2878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328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328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31608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563076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563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563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35480" y="43797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542772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6388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08480" y="638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638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17760" y="618480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1676520"/>
            <a:ext cx="26668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clude common drugs, eg diur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44936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6248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ugs and Hyponatra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uretics (sodium lo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g thiazides, frusemide, indapam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tentiate ADH secretion (water reten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biturates; narcotics; oral hypoglycaemics; antineoplastics; anticonvulsants, antidepress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scellaneous (clofibrate, isoprenaline, nicotine derivati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tentiate ADH action (water reten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lorpropamide, paracetamol, indometha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dium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ustralian Laboratories use Ion Sensitive Electrodes (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direct or in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ution of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utomated anal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ected by lipid and protein concen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ilution of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ga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ros anal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40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onatraemia diagn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4680" y="1066680"/>
            <a:ext cx="15462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yponatr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2438280"/>
            <a:ext cx="37339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asure plasma osmol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0080" y="3429000"/>
            <a:ext cx="2032560" cy="14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000099"/>
                </a:solidFill>
                <a:uFillTx/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Drip-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Pseudohyponatraem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Hyperlipid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Hyperprotein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75160" y="3429000"/>
            <a:ext cx="1864800" cy="70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e Hyponatr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37320" y="3429000"/>
            <a:ext cx="294084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pertonic Hyponatraem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yperglyc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yperglycinaemia (post TU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4735440"/>
            <a:ext cx="33825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asure Urine Sodium and osmolalit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 of hyd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02800" y="5756400"/>
            <a:ext cx="2468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rine sodium &gt;20 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74600" y="5756400"/>
            <a:ext cx="2468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rine sodium &lt;20 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79560" y="318780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9560" y="318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61200" y="318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9400" y="5530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13480" y="55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89400" y="55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19720" y="4149720"/>
            <a:ext cx="7920" cy="57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79760" y="532764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2360" y="62881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4840" y="628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2360" y="628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4480" y="60847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1600200"/>
            <a:ext cx="20588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clude common drugs, eg diur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1409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13480" y="6148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w Sodium and Normal Osmol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Osmolar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p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se high, included in osmolar gap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Osmolar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hyponatra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total protein (&gt;100 g/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lycer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oprote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923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eudohyponatra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ed measured sodium (and other analytes) in indirect measur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used by increase in non-aqueous compon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iglycerides &gt; 30 mmol/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ein &gt; 100 g/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dium molality is n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dium molarity is l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rmal measured osmolality (high osmolar ga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rmal result in blood gas analys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ODY THINKS SODIUM IS N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Hyperosmolar  Hyponatraemia</a:t>
            </a: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(dilutional hyponatraemi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igh extracellular osmol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Glucose (normal osmolar g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Glycine (raised osmolar g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ccurs after TU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aws water out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ith treatment glucose returns into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ater follows glucose into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dium level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dium rise = glucose(mmol/L)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g Sodium 125 mmol/L Glucose 40 mmol/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59640" y="2060640"/>
            <a:ext cx="1800000" cy="165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86720" y="136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02720" y="157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18360" y="179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5344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9780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8688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0288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185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0288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6144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596360" y="1844280"/>
            <a:ext cx="215640" cy="863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956720" y="1773000"/>
            <a:ext cx="215640" cy="863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265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8688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1852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18360" y="179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1852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344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70720" y="143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6720" y="164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744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8216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218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744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34360" y="143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4580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345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8544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18360" y="15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98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694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144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7708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4544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Hyponatra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osmol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osmolar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investigation ind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evaluation of state of hyd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t urin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mol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onatraemia: further invest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59280" y="1414440"/>
            <a:ext cx="36734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asure Urine sodium and osmolali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termine state of hyd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33640" y="2637000"/>
            <a:ext cx="3394800" cy="42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Urine sodium &gt; 20 mmol/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1560" y="2638440"/>
            <a:ext cx="2815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ine sodium &lt; 20 mmol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4600" y="3429000"/>
            <a:ext cx="2700360" cy="259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99"/>
                </a:solidFill>
                <a:uFillTx/>
                <a:latin typeface="Times New Roman"/>
              </a:rPr>
              <a:t>Patient Hypovolae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Renal losses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(UPO&gt;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Diuretic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Addisons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Salt-losing nephri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Proximal 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Osmotic diuresis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(UPO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glucose, u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32000" y="3429000"/>
            <a:ext cx="2776680" cy="286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99"/>
                </a:solidFill>
                <a:uFillTx/>
                <a:latin typeface="Times New Roman"/>
              </a:rPr>
              <a:t>Patient Euvolae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Chronic water 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SIADH (U osmo&gt;2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Hypothyroid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Cortisol deficiency (UPO&gt;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Acute Water 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Stress, post surg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Psychogenic polydips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(UPO&lt;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494080"/>
            <a:ext cx="496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24720" y="2494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56000" y="2494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7120" y="2359080"/>
            <a:ext cx="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2920" y="3284640"/>
            <a:ext cx="561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000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552400" y="3068640"/>
            <a:ext cx="32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32720" y="3016080"/>
            <a:ext cx="0" cy="2073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59240" y="3405240"/>
            <a:ext cx="2297520" cy="94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Patient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cute, ch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5964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59280" y="1270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onatremia: low Urine so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3716280"/>
            <a:ext cx="2921040" cy="122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99"/>
                </a:solidFill>
                <a:uFillTx/>
                <a:latin typeface="Times New Roman"/>
              </a:rPr>
              <a:t>Patient Hypovolae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Extra-renal losses (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UPO&gt;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vomiting, diarrho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skin loss, pancreati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16720" y="3716280"/>
            <a:ext cx="2448000" cy="122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99"/>
                </a:solidFill>
                <a:uFillTx/>
                <a:latin typeface="Times New Roman"/>
              </a:rPr>
              <a:t>Patient Oedemat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enal sodium retent’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cirrhosis, C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 nephrotic sy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716280"/>
            <a:ext cx="2592360" cy="149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99"/>
                </a:solidFill>
                <a:uFillTx/>
                <a:latin typeface="Times New Roman"/>
              </a:rPr>
              <a:t>Patient Euvolae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Fluid depletion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hypotonic repla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IADH with fluid restr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1557360"/>
            <a:ext cx="36734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asure Urine sodium and osmolali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termine state of hyd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49400" y="2781360"/>
            <a:ext cx="2815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ine sodium &gt; 20 mmol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37640" y="2779560"/>
            <a:ext cx="3394800" cy="42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Urine sodium &lt; 20 mmol/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2637000"/>
            <a:ext cx="496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08720" y="2637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40000" y="2637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51480" y="2502000"/>
            <a:ext cx="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40000" y="3500280"/>
            <a:ext cx="561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40000" y="3500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08720" y="3211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3280" y="141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dium in ur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5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Vital investigation for sodium abnorm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pot urine most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ormal range: NOT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ecision point: 20 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nly when patient has true hyponatra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sider effects of salt (RAA) and water (AD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24 hour u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 normals reflects daily in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n be useful for assessing re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451640" y="1989000"/>
            <a:ext cx="6001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onatraemia: Important Diagno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6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uretics -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Failure - creatin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son’s disease  - Cortisol, Synacthe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yroidism - TF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r failure - LF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Failure – History, B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AD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Hyponatra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volaemic (slight overlo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ine sodium &gt; 20 mmol/L (RAAS not 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ine osmolality &gt; 200 (ADH pres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nal, cardiac, liver or adre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to water 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S lesions, lung lesions, 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What we meas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nalyte: Sod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asuran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ctivity of sodium ions per volume of sample (indir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ctivity of sodium ions per mass of water* (concent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* expressed per volume of pl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AD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4840" y="1773360"/>
            <a:ext cx="208584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2852640"/>
            <a:ext cx="2467080" cy="764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ter retention in Kidn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4120" y="4076640"/>
            <a:ext cx="2634480" cy="764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rine osmolality hi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&gt;200 mosm/k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86120" y="2852640"/>
            <a:ext cx="2036880" cy="764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pervolaem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not dehydra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6480" y="2852640"/>
            <a:ext cx="2402640" cy="4291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ibition of RA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87200" y="4076640"/>
            <a:ext cx="1901160" cy="4291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Hyponatraem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00720" y="4076640"/>
            <a:ext cx="2325600" cy="764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Urine sod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&gt; 20 mmol/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03280" y="2276640"/>
            <a:ext cx="0" cy="576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80360" y="3284640"/>
            <a:ext cx="0" cy="792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16360" y="357336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2920" y="3645000"/>
            <a:ext cx="4680" cy="431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16360" y="3141720"/>
            <a:ext cx="863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867280" y="3141360"/>
            <a:ext cx="433440" cy="4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ernatra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987640" y="2624040"/>
            <a:ext cx="3240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ernatraemia diagn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hydration until proven otherw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Exclude artefact (drip 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ot enough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1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nough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162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o sick, old, young, restrained; thirst center le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1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uch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162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, GIT, re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oo much s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1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trogenic, sea water drowning, Con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12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ernatra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" y="2133720"/>
            <a:ext cx="2301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tient Dehyd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59640" y="2852640"/>
            <a:ext cx="2209680" cy="228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U Na &gt; 20 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Salt ingestion (tablets, sea water, iv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hypertonic saline or Na Bicarbon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ineralocorticoid excess syndrom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(only with inadequate fluid inta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32000" y="1989000"/>
            <a:ext cx="648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19890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16360" y="1989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00720" y="1797120"/>
            <a:ext cx="4680" cy="20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52640" y="1197000"/>
            <a:ext cx="32925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rmine state of hydra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asure urine sodium and osmol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2852640"/>
            <a:ext cx="3382920" cy="25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U Na &lt; 10 mmol/L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nadequate intake (U osmo &gt; 800)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- too young,  too old,  too sick, prevented,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oesophageal stricture, thirst centre da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on-renal water loss (Uosmo &gt; 8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GI loss, skin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Diabetes insipidus with inadequate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ntake (U osmo &lt; 3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0600" y="5504040"/>
            <a:ext cx="3456000" cy="118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U Na &gt; 20 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Renal Sodium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osmotic diuresis (UPO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diuretics with decreased water in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 renal dis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16720" y="2205000"/>
            <a:ext cx="2448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Patient Hypervola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73760" y="2181240"/>
            <a:ext cx="2082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Patient Euvola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77000" y="2852640"/>
            <a:ext cx="167724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U osmo &lt;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Diabetes insipid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nephroge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67280" y="4149720"/>
            <a:ext cx="223344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U osmo &gt;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nsensible water lo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2708280"/>
            <a:ext cx="0" cy="280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35280" y="2708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16360" y="256536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16360" y="270828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56360" y="270828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12000" y="256536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0920" y="270828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22280" y="2502000"/>
            <a:ext cx="180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12000" y="1989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yu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771640" y="2233440"/>
            <a:ext cx="396108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yu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from urinary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d collection can be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Urine osmo makes polyuria unlik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Consider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 mellitus (osmo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s: Diuretics, lith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 insipidus (insufficient AD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genic polydipsia (depressed AD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failure (polyu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yuria invest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13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ine osmol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400: not present at time of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 300: osmotic, eg diabetes, re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200: Diabetes Insipidus, Psychogenic polydip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chemically indistinguish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water deprivatio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12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boratory Knowled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e of ass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ternatives (blood gas, osmolality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drip-arm sample look li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yponatraem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pretation of serum osmola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seudohyponatraemia, dilutional hyponatraem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ortance of dru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ires spot urine Na and osm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ference intervals” are not required for urine sodi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ypernatraemia usually dehyd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yu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ot ur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not separate DI and polydips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osing though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dium measurements very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dium and water must be considered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iagnosis of disorders requires both clinical and laboratory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ug history and urine samples are v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ww.sydpath.com.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dium Measurement: Interfer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077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des are very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resence of increased amounts of non-aqueous components we get reduced values with indirect methods (pseudohyponatra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-analy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p-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haemolysis (dilution with intracellular flu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p arm cont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mon dilu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ormal saline: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154 mmol/L Na and 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5% dextrose: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278 mmol/L 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4% &amp; 1/5th saline: 222 mmol/L gluc, 31 Na &amp; 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sults tend to values in dilu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g Na of 170 unlikely to be drip-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smolality tends to be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asuring glucose, albumin and protein help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tefacts: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77320" cy="377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0400" y="5807160"/>
            <a:ext cx="74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estions: Could it be pathology? Could it be artefac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0616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0616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0616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5344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60616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6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978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0616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97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5344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good are w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analytical CV about 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SD of about 1.4 mmol/L for normal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% of results in a 5.6 mmol/L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/- 2S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var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person 0.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person variation 0.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able CV is &lt;0.75 x within person C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cceptable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Water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eight (change in we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hysical examination: pulse, blood pressure, JVP, lung auscultation, o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Concentration of bloo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igh albumin#, high sodium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mean low water content of s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# or prolonged tourniquet for albu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ow albumin or low sodium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mean high water concentration of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5% dehydration highly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02:33:53Z</dcterms:created>
  <dc:creator>.</dc:creator>
  <dc:description/>
  <dc:language>en-US</dc:language>
  <cp:lastModifiedBy>gjones</cp:lastModifiedBy>
  <cp:lastPrinted>1999-02-08T20:57:34Z</cp:lastPrinted>
  <dcterms:modified xsi:type="dcterms:W3CDTF">2004-02-13T05:00:57Z</dcterms:modified>
  <cp:revision>36</cp:revision>
  <dc:subject/>
  <dc:title>Electrolytes - A Romp!</dc:title>
</cp:coreProperties>
</file>