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9F71-1673-459F-A02B-8FFB28D6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9906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3882600"/>
            <a:ext cx="9906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AB5-4481-49AB-9E08-8ACF1645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34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5640" y="1294920"/>
            <a:ext cx="4834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3882600"/>
            <a:ext cx="4834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5640" y="3882600"/>
            <a:ext cx="4834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B87-8E21-4C37-811F-BA38BD85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318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9080" y="1294920"/>
            <a:ext cx="318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8520" y="1294920"/>
            <a:ext cx="318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3882600"/>
            <a:ext cx="318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9080" y="3882600"/>
            <a:ext cx="318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8520" y="3882600"/>
            <a:ext cx="318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E52-B9DA-4309-B39C-AB33563E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294920"/>
            <a:ext cx="99061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110-B82A-4179-9220-D23D8978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9906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2D4-F654-4014-BDB6-48B5D247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34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5640" y="1294920"/>
            <a:ext cx="4834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84A-EE7C-441A-B487-CD1C2CE2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C49-6DE2-4AD2-965E-9AF949F7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E55-B1C1-4DF3-98AB-FBF19A1F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34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5640" y="1294920"/>
            <a:ext cx="4834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3882600"/>
            <a:ext cx="4834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187-4395-4E54-94AE-7E91964C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34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640" y="1294920"/>
            <a:ext cx="4834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5640" y="3882600"/>
            <a:ext cx="4834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B10-1F64-45AA-95A0-E528C403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34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640" y="1294920"/>
            <a:ext cx="4834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3882600"/>
            <a:ext cx="9906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54EE-1E62-4310-9148-DFD995FE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294920"/>
            <a:ext cx="9906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2640" y="6629040"/>
            <a:ext cx="194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08680" y="6629040"/>
            <a:ext cx="397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823B-D6AA-4700-980A-995C8A1B2A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057040"/>
            <a:ext cx="9906120" cy="1676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IOLOGICAL VARIATION FO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-TERMINAL PRO-BN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038480"/>
            <a:ext cx="8578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Jones GRD</a:t>
            </a:r>
            <a:r>
              <a:rPr b="1" lang="en-US" sz="3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Bennett 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,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Boscato L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cdonald 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Brien J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partments of Chemical Pathology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Cardiology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Pharmacy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St Vincent’s Hospital, Sydney, Australi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76520" cy="1424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152280"/>
            <a:ext cx="139536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NPCV APCC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1ED-82B8-4E87-9CF7-5BC8D0B035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9906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Using the tightest definition of stable heart failure the average within-individual biological variation has a CV of 24%, although higher values may be supported by the dat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Depending on definition of stable heart failure, the critical change value is between 70% and 100%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The Roche assay clearly meets precision targets based on biological vari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4800600"/>
            <a:ext cx="945216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Wu A et al. Am J Cardiol.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Jones GRD, Boscato L, Schneider H-G, Clin Biochem Rev 2002 (abstrac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Fraser CG et al. Ann Clin Biochem 1997;34:8-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ACKNOWLED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acknowledge Roche Diagnostics Australia for reagents and equip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3240" y="4770360"/>
            <a:ext cx="98744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NPCV APCC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A4B-9125-4DDC-B359-A1A069C280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125000"/>
            <a:ext cx="967752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312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-terminal proBNP (proBNP) is a plasma biomarker approved for use in the diagnosis and monitoring of patients with congestive cardiac failur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312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ithin-individual variation (CVwi) is an important parameter for assessing required analytical precision and calculating critical chang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312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data is currently available for proBNP only in healthy individuals</a:t>
            </a:r>
            <a:r>
              <a:rPr b="1" lang="en-US" sz="3000" spc="-1" strike="noStrike" baseline="30000">
                <a:solidFill>
                  <a:srgbClr val="cc0066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Vwi = 3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312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this study we evaluate the within-individual biological variation of proBNP in patients with stable heart failur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NPCV APCC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C24-D7E3-4A49-9A96-BB517190C7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s 1: Pat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9906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with symptomatic heart failure were identified during hospital ad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s for proBNP were collected 2 weeks, 3 months and 6 months after disch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were considered to have stable heart failure if, during 12 months from discharge, the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Remained al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Did not undergo cardiac transpla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Were not re-admitted with a diagnosis of heart failur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 Did not change their number of cardiac medications in 6 month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oser definition of stable heart failure was ass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iteria 1 - 3, but allowing a single change in the number of cardiac medications during 6 month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NPCV APCC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EEB-6A4B-48CF-80D8-8B5315A6CD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s 2: Measur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9906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ples were collected into 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DTA tubes, centrifuged and plasma stored at -20 degrees until analysi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12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BNP was measured on an Elecsys 2010 analys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12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ithin-run CV was &lt; 2% and total CV&lt; 6% at all levels tested</a:t>
            </a:r>
            <a:r>
              <a:rPr b="1" lang="en-US" sz="3000" spc="-1" strike="noStrike" baseline="30000">
                <a:solidFill>
                  <a:srgbClr val="cc00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12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samples for a single patient were analysed in the same analytical ru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NPCV APCC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676-023A-46F6-867E-F2037ABB2E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tient Demograph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906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fter initial exclusions, 17 patients were considered to have stable heart failure (out of a total of 102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Average age of included patients: 76 (range 62-91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median of all proBNP results was 2280 ng/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ange: 380 to 10,440 ng/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These results are consistent with the clinical diagnoses of NHYA class 2 or 3 heart failu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Vs were calculated from the 3 data points for each pati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Data from 2 patients was excluded as statistical outliers. (CV&gt;1 SD from next resul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176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atient known not to be compliant with med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176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atient with a single result 7 x other two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NPCV APCC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46C-008A-45B3-B4A6-1BE1256543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thin-Person Var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1440" y="5300640"/>
            <a:ext cx="922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g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Changes in proBNP over time in 17 patients with stable heart failure. The two patients with data removed due to high CVs are shown in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14720" y="1125360"/>
            <a:ext cx="5189400" cy="4262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16200000">
            <a:off x="918000" y="274176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NP (ng/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NPCV APCCB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ED0-2944-47A0-BCE7-8275828B25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9061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3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ble Heart Failure (2 outliers excluded) - 15 patien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proBNP was 2280 pg/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within-person CV w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%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nge: 3 – 4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cluded CVs were 66% and 119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125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ble Heart Failure (no outlier exclusion) - 17 patien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proBNP was 3074 pg/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within-person CV w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ange: 3 – 119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125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Stable Heart Failure (1 medication change) - 34 patien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verage proBNP result 2447 pg/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verage within-person CV w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6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ange 3 - 119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NPCV APCC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AE2-F9CD-4294-A2E1-CE637AFC84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Interpre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" y="1158840"/>
            <a:ext cx="9906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ith the stated between-assay imprecision of 6% and the critical difference at the 95% level for each estimate of CVwi are as follow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Vwi of 24% - CD is a 68% change in concent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Vwi of 36% - CD is 100% change in concent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ing the Roche assay a doubling or halving of proBNP results in a patient with heart failure is highly likely to indicate a significant change in proBNP concentration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Roche proBNP assay is performing better than the optimal precision level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total precision  &lt; 0.25 x CVwi.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lecsys total precision &lt; 6%; target: 6 -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NPCV APCC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CB5-631D-47A6-9C24-EAE91C915A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25920" y="1146240"/>
            <a:ext cx="9906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ithin-person biological variation has been extensively studied for many analytes in healthy peop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ewer studies have been performed on people with disea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major difficulty is the definition of stable disea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have obtained a range of results for average CVwi depending on the definition of “stable disease”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ur range of CVwi overlaps that reported in healthy individuals</a:t>
            </a:r>
            <a:r>
              <a:rPr b="1" lang="en-US" sz="3000" spc="-1" strike="noStrike" baseline="30000">
                <a:solidFill>
                  <a:srgbClr val="cc0066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mall number of samples per patient may account for the wide ranges see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g transformation of the data allows better parametric description, but may be less useful in clinical practi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NPCV APCC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9AE-08FA-4C86-BF45-81E9CE9D09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1:00:57Z</dcterms:created>
  <dc:creator>Graham Jones</dc:creator>
  <dc:description/>
  <dc:language>en-US</dc:language>
  <cp:lastModifiedBy>gjones</cp:lastModifiedBy>
  <dcterms:modified xsi:type="dcterms:W3CDTF">2004-09-16T05:53:25Z</dcterms:modified>
  <cp:revision>13</cp:revision>
  <dc:subject/>
  <dc:title>BIOLOGICAL VARIATION FOR N-TERMINAL PRO-BNP</dc:title>
</cp:coreProperties>
</file>