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799A-D14F-43F8-AAA1-A232E6A03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90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02320"/>
            <a:ext cx="990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E83A-DDD8-4B1A-8AB8-950A61CAE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4200" y="12949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023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4200" y="38023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7B70-44A3-41A2-8A53-BDCC14C26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188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294920"/>
            <a:ext cx="3188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96720" y="1294920"/>
            <a:ext cx="3188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02320"/>
            <a:ext cx="3188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802320"/>
            <a:ext cx="3188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96720" y="3802320"/>
            <a:ext cx="3188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5197-F078-4FE3-8F2F-FC3C0620F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902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1990-5A6A-4619-B3E5-7177425500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90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3D19-7F0C-49DE-9261-64A75D90D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832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4200" y="1294920"/>
            <a:ext cx="4832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CEF8-9C6D-4BC3-8AE8-71873D18D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30C8-A755-4F97-8A23-F7EDBC176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90288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5B17-0087-47A2-9462-41CF01484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4200" y="1294920"/>
            <a:ext cx="4832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023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6D79-9D99-48D3-BE9A-DAC397B5D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832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4200" y="12949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4200" y="38023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8608-FB53-43EE-BD50-09779BEB0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4200" y="1294920"/>
            <a:ext cx="4832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02320"/>
            <a:ext cx="990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83DA-FEFE-4B19-91C8-5A4AE769A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1084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94920"/>
            <a:ext cx="990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727760" y="6634080"/>
            <a:ext cx="1920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BOHB APCCB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80320" y="6630480"/>
            <a:ext cx="34740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6618-D240-4732-85EE-C41A39BF4C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902880" cy="266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BORATORY USE OF THE ABBOTT MEDISENSE METER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TA-HYDROXYBUTYRATE MEASUREMEN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41000" y="48690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D Jones, A Screnci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Pathology, St Vincent’s Hospital, Darlinghurst, NSW 20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360" y="260280"/>
            <a:ext cx="3240000" cy="179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01160" y="0"/>
            <a:ext cx="1701720" cy="21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7EA1-A585-40D2-92EC-2B9A34F5B6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ole blood dilu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24280"/>
            <a:ext cx="9902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Figure 5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ilution of BOHB-containing whole blood sample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HB-free whole blood. EDTA samples (blue diamonds,   ), Heparin sample (green triangles,   ). Dashed line is line of identity of expected resul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Interpret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ilution in whole blood is not line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7011" r="0" b="0"/>
          <a:stretch/>
        </p:blipFill>
        <p:spPr>
          <a:xfrm>
            <a:off x="2125800" y="1177920"/>
            <a:ext cx="5435640" cy="3641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26840" y="4191120"/>
            <a:ext cx="3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BOHB (mmol/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958320" y="254772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HB result (mmol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13080" y="568656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67720" y="5288040"/>
            <a:ext cx="203040" cy="236520"/>
          </a:xfrm>
          <a:prstGeom prst="diamond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E2FB-B834-4724-8754-BBFF85283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mple Addition – low volum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314" t="0" r="3075" b="0"/>
          <a:stretch/>
        </p:blipFill>
        <p:spPr>
          <a:xfrm>
            <a:off x="284040" y="1392120"/>
            <a:ext cx="4803840" cy="215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6209" t="0" r="2936" b="0"/>
          <a:stretch/>
        </p:blipFill>
        <p:spPr>
          <a:xfrm>
            <a:off x="264960" y="3581280"/>
            <a:ext cx="4797720" cy="222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29200" y="1600200"/>
            <a:ext cx="487368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Figure 6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ddition of low sample volumes. Two heparin whole blood samples tested at progressively lower volumes. Red line shows average of higher volume addition. Note stated minimum is 5 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Interpret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ddition of sample volumes less than 10 uL may give misleading results. A minimum of 20uL sample volume is recommend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7080" y="573408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Volume (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1011960" y="325440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HB Result (mmol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D96F-294B-41BF-BC47-B08B99D008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56880"/>
            <a:ext cx="96314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Abbott Medisense BOHB system is suitable for laboratory use, providing a simple, robust technology for use on EDTA and heparin whole blood samples stored for up to 3 days at 4 degrees or 1 day at room temperat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Fluoride oxalate whole blood appears to be satisfact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results were within the stated performance crite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e must be taken to ensure sufficient sample volu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lution of high samples is not suppor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9360" y="4869000"/>
            <a:ext cx="9631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99"/>
                </a:solidFill>
                <a:latin typeface="Times New Roman"/>
              </a:rPr>
              <a:t>Acknowled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Times New Roman"/>
              </a:rPr>
              <a:t>We thank Abbott Diagnostics for supply of reagent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Times New Roman"/>
              </a:rPr>
              <a:t>Referen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Times New Roman"/>
              </a:rPr>
              <a:t>1. Chiu RKW et al. Evaluation of a new handheld biosensor for point-of-care testing of whole blood beta-hydroxybutyrate concentration. HKMJ 2002;8:172-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Times New Roman"/>
              </a:rPr>
              <a:t>2. Wallace TM et al. The hospital and home use of a 30-second hand-held blood ketone meter: guidelines for clinical practice. Diabetes UK 2001;18:640-5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 Guidelines and Recommendations for Laboratory Analysis in the Diagnosis and Management of Diabetes Mellitus. NACB. 2002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869000"/>
            <a:ext cx="990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83D6-C5F8-4F60-89EE-721B967218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1440" y="1147320"/>
            <a:ext cx="9631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eto-acidosis is a potentially life-threatening complication of Type 1 diabetes mellitu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ta-Hydroxybutyrate (BOHB) is the best marker for this complicat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rrent tests for ketones are wet chemistry laboratory tests for BOHB or dipstick tests for acetoace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w volume testing on automated analysers is not cost effec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bott has developed a near-patient test for BOHB on the Medisense me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evaluate the Abbott test for use in the laborat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9CF1-B230-4B4E-A033-48EB60D5EC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Requirements for Laboratory Testing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080" y="1252080"/>
            <a:ext cx="986004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edisense meter is designed for near-patient testing using a whole blood fingerprick samp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laboratory samples are subject to other variab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Effects of different sample anticoagula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lays in sample arri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quests for add-on tests on old samp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is also the opportunity to improve control of such factors as sample volume and to perform additional functions such as sample dilu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5036-12E5-4BF2-9DC3-B768854C4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360" y="1143000"/>
            <a:ext cx="914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evaluate the Abbott Medisense meter for BOHB measurement in a laboratory environmen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includes assessment o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ple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ple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ffect of short sample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ple Di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uracy has previously been addressed in the literatur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does not form part of this evalu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5690-3303-46DD-9C51-61C320A63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disense BOHB Assa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t Insert Clai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mediate measurement of whole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parin whole blood suitable and stable for 30 m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rum or plasma is not recommend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uoride oxalate whole blood unsuit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ther sample types not mention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itable for haematocrit range 30% to 60%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 uL sample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ange 0.0 - 6.0 mmol/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6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lts in 30 seco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734B-A9D4-4FF1-8537-FAA14136C6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72880"/>
            <a:ext cx="963144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5000"/>
              </a:lnSpc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ample types were evalu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5000"/>
              </a:lnSpc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TA whole blood (WB), heparin WB, EDTA plasma, heparin plasma, Fluoride oxalate W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5000"/>
              </a:lnSpc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tability was assessed room temperature and 4°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5000"/>
              </a:lnSpc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ity of whole blood dilution was ass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5000"/>
              </a:lnSpc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at low sample volume ad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Criteria for this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/- 0.7 mmol/L below 3.5 mmol/L, then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iteria allows clear separation of DKA from normal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BCBF-98A6-49BD-9A7B-D1AC40D23B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920" y="1163520"/>
            <a:ext cx="4663800" cy="2814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mple Comparis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00" y="3754440"/>
            <a:ext cx="4765680" cy="270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23760" y="6248520"/>
            <a:ext cx="37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parin Whole Blood BOHB (mmol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674280" y="2199600"/>
            <a:ext cx="16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HB (mmol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1197720" y="486648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HB Difference (mmol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1200" y="1162080"/>
            <a:ext cx="49514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Figure 2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catter plot (A) and Difference plot (B) for EDTA WB (blue diamonds,    ) and Fluoride Oxalate WB (red squares,    ) compared to heparin WB. The acceptance limits (+/- 0.7 up to 3.5 mmol/L, then 20%) are shown in purple. Solid line in A is the line of identity, dashed line is the line of best fit for EDTA samp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Interpretation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DTA and Fluoride Oxalate WB results are equivalent to Heparin WB resul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024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65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56520" y="2133720"/>
            <a:ext cx="228600" cy="228600"/>
          </a:xfrm>
          <a:prstGeom prst="diamond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80520" y="2565360"/>
            <a:ext cx="168120" cy="19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A22B-2D23-4219-94EF-108751890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5480" r="0" b="0"/>
          <a:stretch/>
        </p:blipFill>
        <p:spPr>
          <a:xfrm>
            <a:off x="1577880" y="1023840"/>
            <a:ext cx="7031160" cy="3365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419720"/>
            <a:ext cx="990288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Figure 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in-run precision was evaluated by duplicate testing of whole blood samples. The graph shows the difference between paired paired measurements of EDTA WB  (blue diamonds,    ) and heparin WB (green squares,    ). The overall CV was 8% for EDTA and 7% for heparin samples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est EDTA outlier was excluded from CV calculation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Interpre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Whole blood precision is accep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9920" y="409104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HB (mmol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179640" y="21459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 (mmol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10440" y="5353200"/>
            <a:ext cx="228600" cy="228600"/>
          </a:xfrm>
          <a:prstGeom prst="diamond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5719680"/>
            <a:ext cx="168120" cy="192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E78D-2D44-4925-9F0B-1565F6574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941400"/>
            <a:ext cx="4760640" cy="3057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951440" y="974880"/>
            <a:ext cx="4726080" cy="3017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0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mple Stabil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191120"/>
            <a:ext cx="9902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Figure 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ample stability at Room temperature (A) and 4 degrees (B) for EDTA WB (blue diamonds,   ), heparin WB (green triangles,    ) and Fluoride oxalate WB (red squares,   ). Change is expressed as a fraction of the Acceptance Criteria (AC) on the Y ax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Interpretation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amples are stable for at least 24 hours at room temperature and 3 days at 4 degre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2480" y="155880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. 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53640" y="155736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. 4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9800" y="38862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ho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396252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ho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056960" y="2211480"/>
            <a:ext cx="24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(fraction of A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03800" y="4724280"/>
            <a:ext cx="203040" cy="236520"/>
          </a:xfrm>
          <a:prstGeom prst="diamond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13800" y="4795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67400" y="5167440"/>
            <a:ext cx="16812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1DB6-9ED2-4BC1-B0EF-C5E91A2E44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1:42:12Z</dcterms:created>
  <dc:creator>Graham Jones</dc:creator>
  <dc:description/>
  <dc:language>en-US</dc:language>
  <cp:lastModifiedBy>gjones</cp:lastModifiedBy>
  <dcterms:modified xsi:type="dcterms:W3CDTF">2004-09-17T01:47:28Z</dcterms:modified>
  <cp:revision>18</cp:revision>
  <dc:subject/>
  <dc:title>Laboratory Use of the Abbott Medisense Meter for Beta-hydroxybutyrate Measurement. </dc:title>
</cp:coreProperties>
</file>