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35880"/>
            <a:ext cx="9144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462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341360"/>
            <a:ext cx="4462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35880"/>
            <a:ext cx="4462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35880"/>
            <a:ext cx="4462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29440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1341360"/>
            <a:ext cx="29440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1341360"/>
            <a:ext cx="29440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35880"/>
            <a:ext cx="29440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35880"/>
            <a:ext cx="29440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35880"/>
            <a:ext cx="29440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462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1341360"/>
            <a:ext cx="4462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462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1341360"/>
            <a:ext cx="4462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35880"/>
            <a:ext cx="4462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462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41360"/>
            <a:ext cx="4462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35880"/>
            <a:ext cx="4462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462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41360"/>
            <a:ext cx="4462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35880"/>
            <a:ext cx="9144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32080" y="6518160"/>
            <a:ext cx="2311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CPA / AACB 2007 - G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nkdep.nih.gov/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idney.org/professionals/kdoqi/guidelines_ckd/Gif_File/kck_t10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R estimation: the key to assessment of kidney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Dr Graham J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Department of Chemical Path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St Vincent’s Hospital, Syd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74720" cy="1424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62920" y="152280"/>
            <a:ext cx="13935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F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295280"/>
            <a:ext cx="88930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merular Filtration Rate is the volume of fluid passing through the glomerulus in a given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d by renal perfusion pressure, renal vascular resistance, glomerular damage, post-glomerular res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Range” approx 90 - 150 m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 170 L per 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r healthy person has a higher G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reported as 90 - 150 mL/min/1.73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fall with increasing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asons for estimating the G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itoring progression of CK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FR estimates are used for drug dosing deci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ing of renally excret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ing nephrotoxic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factor for cardiovascular disease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nal involvement in systemic diseases, such as diabetes mellitus or S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measure GF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 marker of GF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ly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 filtered at the glomer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resorbed or secreted in the tub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lost to the body in any othe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ulin is the prototype GFR mar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gar of MW 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quires constant inulin i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t used i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ement of G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4720" y="1372680"/>
            <a:ext cx="890892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AU" sz="3000" spc="-1" strike="noStrike" baseline="30000">
                <a:solidFill>
                  <a:srgbClr val="000000"/>
                </a:solidFill>
                <a:latin typeface="Arial"/>
              </a:rPr>
              <a:t>51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-EDTA, I</a:t>
            </a:r>
            <a:r>
              <a:rPr b="0" lang="en-AU" sz="3000" spc="-1" strike="noStrike" baseline="30000">
                <a:solidFill>
                  <a:srgbClr val="000000"/>
                </a:solidFill>
                <a:latin typeface="Arial"/>
              </a:rPr>
              <a:t>125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-iothalamate, Tc</a:t>
            </a:r>
            <a:r>
              <a:rPr b="0" lang="en-AU" sz="3000" spc="-1" strike="noStrike" baseline="30000">
                <a:solidFill>
                  <a:srgbClr val="000000"/>
                </a:solidFill>
                <a:latin typeface="Arial"/>
              </a:rPr>
              <a:t>99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-DTPA, iohex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Intravenous injection of subst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Measure concentrations in blood and or urine at various time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Calculate clearance as estimate of GF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886200"/>
            <a:ext cx="8686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Time consu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Radioactive mate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Significant Between-laboratory variation (5-2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Gold standard” not very gol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 of G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d GF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um creatin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nine clea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ulae based on serum creatin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kcroft and G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g Cystat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916280"/>
            <a:ext cx="7921440" cy="27367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4160" y="4405320"/>
            <a:ext cx="4594320" cy="94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based on measure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erum creati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 of GFR (creatinin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320" y="1337760"/>
            <a:ext cx="89470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 production </a:t>
            </a:r>
            <a:r>
              <a:rPr b="0" lang="en-US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ly filtered at the glomerulus </a:t>
            </a:r>
            <a:r>
              <a:rPr b="0" lang="en-US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tubular secretion or resor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ubular secre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extra-renal metabolism </a:t>
            </a:r>
            <a:r>
              <a:rPr b="0" lang="en-US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extra-renal l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GIT los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s of creatinine through avenues other than glomerular filtration means Creatinine Clearance is slightly higher than the GF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um Creatinine A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ault / Historical 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marker universally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marker for screening (case fi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ntration reflects rate of production as well as rate of remo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onship to rate of removal is not lin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ular hyperbol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doctor to take multiple (non-linear) factors into accou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46619" t="0" r="0" b="-3974"/>
          <a:stretch/>
        </p:blipFill>
        <p:spPr>
          <a:xfrm>
            <a:off x="457200" y="304920"/>
            <a:ext cx="6151680" cy="6553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28800" y="2590920"/>
            <a:ext cx="3994200" cy="2859120"/>
          </a:xfrm>
          <a:custGeom>
            <a:avLst/>
            <a:gdLst/>
            <a:ahLst/>
            <a:rect l="l" t="t" r="r" b="b"/>
            <a:pathLst>
              <a:path w="2516" h="1801">
                <a:moveTo>
                  <a:pt x="0" y="0"/>
                </a:moveTo>
                <a:cubicBezTo>
                  <a:pt x="7" y="162"/>
                  <a:pt x="15" y="325"/>
                  <a:pt x="25" y="432"/>
                </a:cubicBezTo>
                <a:cubicBezTo>
                  <a:pt x="35" y="539"/>
                  <a:pt x="34" y="541"/>
                  <a:pt x="61" y="641"/>
                </a:cubicBezTo>
                <a:cubicBezTo>
                  <a:pt x="88" y="741"/>
                  <a:pt x="151" y="937"/>
                  <a:pt x="189" y="1032"/>
                </a:cubicBezTo>
                <a:cubicBezTo>
                  <a:pt x="227" y="1127"/>
                  <a:pt x="251" y="1152"/>
                  <a:pt x="289" y="1214"/>
                </a:cubicBezTo>
                <a:cubicBezTo>
                  <a:pt x="327" y="1276"/>
                  <a:pt x="363" y="1351"/>
                  <a:pt x="416" y="1405"/>
                </a:cubicBezTo>
                <a:cubicBezTo>
                  <a:pt x="469" y="1459"/>
                  <a:pt x="527" y="1500"/>
                  <a:pt x="607" y="1541"/>
                </a:cubicBezTo>
                <a:cubicBezTo>
                  <a:pt x="687" y="1582"/>
                  <a:pt x="784" y="1621"/>
                  <a:pt x="898" y="1650"/>
                </a:cubicBezTo>
                <a:cubicBezTo>
                  <a:pt x="1012" y="1679"/>
                  <a:pt x="1167" y="1696"/>
                  <a:pt x="1288" y="1714"/>
                </a:cubicBezTo>
                <a:cubicBezTo>
                  <a:pt x="1409" y="1732"/>
                  <a:pt x="1525" y="1750"/>
                  <a:pt x="1625" y="1759"/>
                </a:cubicBezTo>
                <a:cubicBezTo>
                  <a:pt x="1725" y="1768"/>
                  <a:pt x="1778" y="1762"/>
                  <a:pt x="1888" y="1768"/>
                </a:cubicBezTo>
                <a:cubicBezTo>
                  <a:pt x="1998" y="1774"/>
                  <a:pt x="2183" y="1791"/>
                  <a:pt x="2288" y="1796"/>
                </a:cubicBezTo>
                <a:cubicBezTo>
                  <a:pt x="2393" y="1801"/>
                  <a:pt x="2481" y="1799"/>
                  <a:pt x="2516" y="17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0840" y="1371600"/>
            <a:ext cx="47998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creatinine approx. = 1/G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3400" y="6199200"/>
            <a:ext cx="71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606960" y="2570760"/>
            <a:ext cx="28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um Creatinine (mg/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ckroft and Gaul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268280"/>
            <a:ext cx="8534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ed in 1976 from 249 people (96% 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equently validated in at least 58 stu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easure of creatinine clea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imate urine creatinine based on age, weight and sex of pat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lse elevation of serum creatinine assays (in 1976) gave lower results, serendipitously approximating the GF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er (better) creatinine assays give falsely elevated GFR estimates (approx 15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ckcroft and Gault -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we correct for “new” creatinine measurements (decrease results by 15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we use ideal body weight (estimated from h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ostatic / waste remo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ns (p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2680" y="6019920"/>
            <a:ext cx="75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ney damage: abnormalities of thes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ine Cl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ment of clearance of creatinine us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um creatinin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d urine collection (often 24 ho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creatinin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ance = Ucreat x Uvol / Screat x 24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d urine samples notoriously difficul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R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d GF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um creatin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nine Clea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ckcroft and G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one of over 40 other formulae using serum creatin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D*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y et al Ann Intern Med 130:461-470,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1070 in training set and 558 validati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formula developed for G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ccurate and precise than other formul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Modification of Diet in Renal Dis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D – No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good for people with normal renal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ew normals in training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w creatinine measurement less g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reported as mL/min/1.73 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ood for grading rena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ffect on drug do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breviated” MDRD only requires age, sex and race (African-American or n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A, RCPA, AACB Propos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 estimated GFR with MDRD with all creatinine requests for patients over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&gt;60 mL/min/1.73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ported as “&gt;60 mL/min/1.73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extended to 90 mL/min/1.73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uracy approximately +/-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mmended in USA (www.nkdep.nih.go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mmended in UK (MDRD or C&amp;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w in France (C&amp;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National Kidney Disease Education Progr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956120" cy="2181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8760" y="8636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nkdep.nih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KDOQI (Kidney Disease Outcomes Quality Initiative)"/>
          <p:cNvPicPr/>
          <p:nvPr/>
        </p:nvPicPr>
        <p:blipFill>
          <a:blip r:embed="rId3"/>
          <a:stretch/>
        </p:blipFill>
        <p:spPr>
          <a:xfrm>
            <a:off x="838080" y="2209680"/>
            <a:ext cx="3240360" cy="1621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6320" y="2556000"/>
            <a:ext cx="412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kidney.org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S/kdoq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14400" y="4635360"/>
            <a:ext cx="2057400" cy="23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2133720" cy="220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914400" y="4024440"/>
            <a:ext cx="2133720" cy="404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3029040" y="4419720"/>
            <a:ext cx="2076480" cy="218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5105520" y="4419720"/>
            <a:ext cx="2133360" cy="218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08760" y="4673520"/>
            <a:ext cx="25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kdig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1371600" y="4952880"/>
            <a:ext cx="1430280" cy="1729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08760" y="558792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kidney.org.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4247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est for renal fail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um creatinine best for early detection and monitoring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ayed response in severe acute renal failure (as with serum creatinin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dialysis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ug dosing issues not well addres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retation in the elde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retation in different racial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l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most universal uptake of eGFR repor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ar complete standardisation of un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ol/L and m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in referrals to nephrolog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p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d to approx. 30%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of referrals wer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als were under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David Johnston (Queens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wareness of reduced GFR in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mber 20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“175” equation for IDMS-aligned ass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ing up to 90 mL/min/1.73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-related decision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ug Do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cial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detection and management of CK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relationship with clinical colleag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on urine albumin and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on LFT and u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tion of role of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sing and solving metrolog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or organ for clinical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-operation between laboratories for the benefit of doctors and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For a person in steady state: input = outp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Urine volume = water intake (food + drink)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                               - fecal, sweat, respiratory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 lo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Sodium excretion = sodium intake – fecal and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                                      sweat lo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ing Kidney Function - Measured and Estimated Glomerular Filtration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vens LA et al. NEJM 2006;354:2473-8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ated Reporting of Glomerular Filtration Rate - Just what the doctor orde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y AS et al. Clin Chem 2006;52:2188-9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asian Creatinine Consensus Working Group. Chronic Kidney Disease and Automatic Reporting of eGFR. A position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 J Aust. 2005;183:138-1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unctions of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r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Hydroxylation of 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poieti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i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bol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gen storage (minor 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ug remo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6040" y="5246640"/>
            <a:ext cx="684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ney Damage: hypocalcaemia, ana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ired drug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: acute phas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K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4444" t="3294" r="0" b="3571"/>
          <a:stretch/>
        </p:blipFill>
        <p:spPr>
          <a:xfrm>
            <a:off x="0" y="974880"/>
            <a:ext cx="9144000" cy="5209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640" y="6332400"/>
            <a:ext cx="72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ietz Textbook of Clinical Chemistry: Renal Function and Nitrogen Metabol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l Failu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D: Chronic Kidney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F: Acute Renal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I: Acute Kidney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r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K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nically silent in the early st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 of renal disease can be extreme to health care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Effects of renal disease can be extreme on pat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s now available to slow prog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Need an “early warning” system for CK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ases of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heroscler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merular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x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tami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analge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herited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bular disor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295280"/>
            <a:ext cx="4648320" cy="441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616120"/>
            <a:ext cx="3733920" cy="180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global renal diseases affect glomerular filtration rate (GF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280"/>
            <a:ext cx="7620120" cy="633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077320" y="2971800"/>
            <a:ext cx="0" cy="1371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1523880"/>
            <a:ext cx="0" cy="1371600"/>
          </a:xfrm>
          <a:prstGeom prst="line">
            <a:avLst/>
          </a:prstGeom>
          <a:ln w="76320">
            <a:solidFill>
              <a:srgbClr val="cc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440" y="6424560"/>
            <a:ext cx="199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K/DOQI (US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22:02:06Z</dcterms:created>
  <dc:creator>gjones</dc:creator>
  <dc:description/>
  <dc:language>en-US</dc:language>
  <cp:lastModifiedBy>gjones</cp:lastModifiedBy>
  <dcterms:modified xsi:type="dcterms:W3CDTF">2007-02-16T00:35:50Z</dcterms:modified>
  <cp:revision>30</cp:revision>
  <dc:subject/>
  <dc:title>GFR estimation: The key to assessment of kidney disease</dc:title>
</cp:coreProperties>
</file>