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CA79-7D95-4057-B3C0-8D2DBD5F8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360" y="1341000"/>
            <a:ext cx="99061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360" y="3840120"/>
            <a:ext cx="99061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B561-85C9-4F78-BF4B-2411FC543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360" y="1341000"/>
            <a:ext cx="483408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75640" y="1341000"/>
            <a:ext cx="483408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360" y="3840120"/>
            <a:ext cx="483408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75640" y="3840120"/>
            <a:ext cx="483408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E008-536D-492E-BB29-A9E390DA9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360" y="1341000"/>
            <a:ext cx="318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49080" y="1341000"/>
            <a:ext cx="318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98520" y="1341000"/>
            <a:ext cx="318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360" y="3840120"/>
            <a:ext cx="318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49080" y="3840120"/>
            <a:ext cx="318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98520" y="3840120"/>
            <a:ext cx="318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20FB-D011-4DFE-A4DD-44D45A3B0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360" y="1341000"/>
            <a:ext cx="990612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4A1D-67BC-478D-920A-6C60ABE87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360" y="1341000"/>
            <a:ext cx="99061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B890-EC25-4552-8C4C-115DDA3BF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360" y="1341000"/>
            <a:ext cx="483408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75640" y="1341000"/>
            <a:ext cx="483408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9842-214D-4AB4-B1D6-664E75B62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5FB1-4A68-4DC1-926A-32A7630E4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9906120" cy="48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B36E-DD5D-4D42-A768-AE4D2C7AD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360" y="1341000"/>
            <a:ext cx="483408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75640" y="1341000"/>
            <a:ext cx="483408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360" y="3840120"/>
            <a:ext cx="483408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2CDC-CB1E-41BC-AC82-6065FDB12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360" y="1341000"/>
            <a:ext cx="483408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75640" y="1341000"/>
            <a:ext cx="483408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75640" y="3840120"/>
            <a:ext cx="483408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B421-7BD5-4DC6-A7EA-85E0B04AD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360" y="1341000"/>
            <a:ext cx="483408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75640" y="1341000"/>
            <a:ext cx="483408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360" y="3840120"/>
            <a:ext cx="99061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0E80-445D-4050-9631-A978AE932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0526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360" y="1341000"/>
            <a:ext cx="99061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64440" y="6476760"/>
            <a:ext cx="222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416520" y="6476760"/>
            <a:ext cx="4892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EFCEF-AB00-44D6-8231-EAAA2D2FD63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2060280"/>
            <a:ext cx="9906120" cy="23050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TANDARDISED PRESENTATION OF INTERFERENCE DATA FOR LIMIT SETTING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40880" y="4653000"/>
            <a:ext cx="8736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J Marti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P Graham, M Roser, GRD J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mical Pathology, St Vincent’s Hospital, Sydney, Austral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162000"/>
            <a:ext cx="3367080" cy="1719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759800" y="0"/>
            <a:ext cx="1641240" cy="190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ferences APCC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0556-14B4-44F2-AAAD-07A8764A129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00160" y="260280"/>
            <a:ext cx="9505800" cy="6488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ferences APCCB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2424-1C8D-4408-82AC-B089CF21060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9079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-360" y="1341000"/>
            <a:ext cx="99061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e have developed a spreadsheet application allowing easy graphical display of multiple data sets for interpretation of interference data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data demonstrated has been generated on an Olympus AU2700 using user-defined, quantitative serum indice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application allows improved target setting for allowable interference limits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ferences APCC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3C44-CBFD-470F-AAD4-BBCE9372655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9079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ffff"/>
                </a:solidFill>
                <a:latin typeface="Arial"/>
              </a:rPr>
              <a:t>Background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-360" y="1341000"/>
            <a:ext cx="99061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5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ference studies are commonly performed for potential interferences from haemolysis, lipaemia and icteru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15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ssessment of this data is difficult as there is no standardised criteria for decision making in this are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15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is poster we demonstrate a graphical presentation of interference data to facilitate the process of setting interference limi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ferences APCC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C583-B9B8-46B4-8FB0-9B76B788AF0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9079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ffff"/>
                </a:solidFill>
                <a:latin typeface="Arial"/>
              </a:rPr>
              <a:t>Methods - Sample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99800" y="1125000"/>
            <a:ext cx="9434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6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terference data was generated as follow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6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-vitro haemolysis model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6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resh haemolysate at various concentrations from a single donor was added to serum pools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6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resh haemolysates from different donors were added to a single serum pool at a single concentratio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6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ipaemia Model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6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tralipi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™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was added to serum pools at various concentration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6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amples were measured on an Olympus AU2700 analyser with user-defined quantitative “H” and “L” indi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ferences APCC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A63C-A252-4F25-A580-C7DC107910C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9079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ffff"/>
                </a:solidFill>
                <a:latin typeface="Arial"/>
              </a:rPr>
              <a:t>Methods – Olympus Indice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-360" y="1341000"/>
            <a:ext cx="99061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374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Times New Roman"/>
              </a:rPr>
              <a:t>Serum Indices for Haemolysis (H) and Lipaemia (L) were set up on an Olympus AU2700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374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Times New Roman"/>
              </a:rPr>
              <a:t>Two additional tests were installed (APP and APP1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374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Times New Roman"/>
              </a:rPr>
              <a:t>Wavelengths: APP 570 (primary) / 600 (secondary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374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Times New Roman"/>
              </a:rPr>
              <a:t>Wavelengths: APP1 600 (primary) / 700 (secondary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374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Times New Roman"/>
              </a:rPr>
              <a:t>Sample volume: 6uL, reagent volume (saline): 125 u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374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Times New Roman"/>
              </a:rPr>
              <a:t>Calculatio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374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Times New Roman"/>
              </a:rPr>
              <a:t>L = 88.95 * APP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374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Times New Roman"/>
              </a:rPr>
              <a:t>H = 3773.12* (APP – (1.25* (APP2)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374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se quantitative indices were based on Hitachi serum indices and are used in place of the Olympus proprietary semi-quantitative indice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ferences APCC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FDEE-9B41-4F78-973F-939D6A8063D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9079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ffff"/>
                </a:solidFill>
                <a:latin typeface="Arial"/>
              </a:rPr>
              <a:t>Methods - Spreadshee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28760" y="1125000"/>
            <a:ext cx="92059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terference data was entered into an Excel spreadsheet applicatio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Times New Roman"/>
              </a:rPr>
              <a:t>Other Inpu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Times New Roman"/>
              </a:rPr>
              <a:t>RCPA-AACB QAP Allowable Limits of Performance (ALP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Times New Roman"/>
              </a:rPr>
              <a:t>Within-individual Biological Variation (CVwi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Times New Roman"/>
              </a:rPr>
              <a:t>Instrument / method / setup criteri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Times New Roman"/>
              </a:rPr>
              <a:t>Date of interference dat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Times New Roman"/>
              </a:rPr>
              <a:t>The aim of the application is to display all the required information for decision making on the same screen or printout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ferences APCC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503A-F4E4-45CD-B526-3C0EAC6240A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9079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ffff"/>
                </a:solidFill>
                <a:latin typeface="Arial"/>
              </a:rPr>
              <a:t>Application Display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71080" y="1125000"/>
            <a:ext cx="93632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34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displ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34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w da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34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expressed as absolute and fractional cha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34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e data sets of serial interference addi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up to 3 at a tim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34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e sets of individual haemolysate prepa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(up to 18 different haemolysat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34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the same graphs was display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34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CPA-AACB QAP allowable limits of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34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ithin-person biological vari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34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The chart inclu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34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Analytical method, date, catalog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34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Analytical C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ferences APCC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2F72-BC49-439B-AB43-7741F093FC2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9079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pplication Us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360" y="1341000"/>
            <a:ext cx="99061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56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hange analytes for review in 2 or 3 keystrok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56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lect data sets by single letter cod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56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view current cutoffs and review alternate cutoff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56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Graphicall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56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Numericall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requires selection of data set by single letter code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56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llows direct comparison of data sets according to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56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stru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56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56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56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ferences APCC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D728-A591-4360-9906-8BEF28A5C51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68200" y="206280"/>
            <a:ext cx="9471240" cy="6537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ferences APCCB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63D7-0374-4917-9429-5DD65BA8EF9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352520" y="955800"/>
            <a:ext cx="7201080" cy="49687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33520" y="228600"/>
            <a:ext cx="1752480" cy="533520"/>
          </a:xfrm>
          <a:prstGeom prst="wedgeRectCallout">
            <a:avLst>
              <a:gd name="adj1" fmla="val 26175"/>
              <a:gd name="adj2" fmla="val 907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1676520"/>
            <a:ext cx="762120" cy="761760"/>
          </a:xfrm>
          <a:prstGeom prst="wedgeRectCallout">
            <a:avLst>
              <a:gd name="adj1" fmla="val 135833"/>
              <a:gd name="adj2" fmla="val -387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w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2680" y="2897280"/>
            <a:ext cx="990720" cy="685800"/>
          </a:xfrm>
          <a:prstGeom prst="wedgeRectCallout">
            <a:avLst>
              <a:gd name="adj1" fmla="val 108652"/>
              <a:gd name="adj2" fmla="val -1041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solut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5867280"/>
            <a:ext cx="1219320" cy="762120"/>
          </a:xfrm>
          <a:prstGeom prst="wedgeRectCallout">
            <a:avLst>
              <a:gd name="adj1" fmla="val 96875"/>
              <a:gd name="adj2" fmla="val -14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v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33720" y="5943600"/>
            <a:ext cx="1676160" cy="685800"/>
          </a:xfrm>
          <a:prstGeom prst="wedgeRectCallout">
            <a:avLst>
              <a:gd name="adj1" fmla="val 24337"/>
              <a:gd name="adj2" fmla="val -1400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P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co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977240" y="1268280"/>
            <a:ext cx="1676520" cy="762120"/>
          </a:xfrm>
          <a:prstGeom prst="wedgeRectCallout">
            <a:avLst>
              <a:gd name="adj1" fmla="val -97916"/>
              <a:gd name="adj2" fmla="val 945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se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a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848720" y="5029200"/>
            <a:ext cx="1752480" cy="1143000"/>
          </a:xfrm>
          <a:prstGeom prst="wedgeRectCallout">
            <a:avLst>
              <a:gd name="adj1" fmla="val -96375"/>
              <a:gd name="adj2" fmla="val -3402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sets fo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543800" y="380880"/>
            <a:ext cx="1676520" cy="762120"/>
          </a:xfrm>
          <a:prstGeom prst="wedgeRectCallout">
            <a:avLst>
              <a:gd name="adj1" fmla="val -120833"/>
              <a:gd name="adj2" fmla="val 7895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181480" y="0"/>
            <a:ext cx="1676520" cy="990720"/>
          </a:xfrm>
          <a:prstGeom prst="wedgeRectCallout">
            <a:avLst>
              <a:gd name="adj1" fmla="val -35796"/>
              <a:gd name="adj2" fmla="val 7563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&amp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e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tof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4240" y="3930480"/>
            <a:ext cx="1081080" cy="719280"/>
          </a:xfrm>
          <a:prstGeom prst="wedgeRectCallout">
            <a:avLst>
              <a:gd name="adj1" fmla="val 188032"/>
              <a:gd name="adj2" fmla="val 5595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urrent Cutt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4786200"/>
            <a:ext cx="1274760" cy="719280"/>
          </a:xfrm>
          <a:prstGeom prst="wedgeRectCallout">
            <a:avLst>
              <a:gd name="adj1" fmla="val 90101"/>
              <a:gd name="adj2" fmla="val -5507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Proposed Cutt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545240" y="3645000"/>
            <a:ext cx="1676520" cy="761760"/>
          </a:xfrm>
          <a:prstGeom prst="wedgeRectCallout">
            <a:avLst>
              <a:gd name="adj1" fmla="val -105208"/>
              <a:gd name="adj2" fmla="val -4229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ferences APCCB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2820-9C1E-4BEF-84E2-651AEC8DF98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22:26:00Z</dcterms:created>
  <dc:creator>gjones</dc:creator>
  <dc:description/>
  <dc:language>en-US</dc:language>
  <cp:lastModifiedBy>gjones</cp:lastModifiedBy>
  <dcterms:modified xsi:type="dcterms:W3CDTF">2004-09-16T05:52:04Z</dcterms:modified>
  <cp:revision>10</cp:revision>
  <dc:subject/>
  <dc:title>STANDARDISED PRESENTATION OF INTERFERENCE DATA FOR LIMT SETTING</dc:title>
</cp:coreProperties>
</file>