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76640"/>
            <a:ext cx="9144000" cy="1800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erences - are some methods better than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ham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Chemical Pat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 Vincent’s Hospital, Sy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37816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esment of Interfer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Melvin Gli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Clin Chem (1987) 33: 1453-145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Add known amounts of RBC lysate; Intralipid;  bilirubin to normal ser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Standard proced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Plot percent change in result vs interferent concen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Interferograph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terferographs: Gl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1378080"/>
            <a:ext cx="5245200" cy="387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9840" y="2901960"/>
            <a:ext cx="5245200" cy="520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09480" y="295128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9480" y="11984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8080" y="508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1086480" y="3030840"/>
            <a:ext cx="397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/original result x 100 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48160" y="53132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4960" y="53895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66680" y="5313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6480" y="5999040"/>
            <a:ext cx="575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aemolysate added (as haemoglobin. mg/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9840" y="1669680"/>
            <a:ext cx="5245200" cy="14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6160" y="3130560"/>
            <a:ext cx="509256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52720" y="264636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5000" y="317988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0" y="295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0640000">
            <a:off x="4707360" y="1814040"/>
            <a:ext cx="128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iru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39840" y="1365120"/>
            <a:ext cx="292320" cy="17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920000">
            <a:off x="1734840" y="1965240"/>
            <a:ext cx="156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Biliru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480000">
            <a:off x="5776200" y="3719520"/>
            <a:ext cx="118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0680" y="4094280"/>
            <a:ext cx="1682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reat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9840" y="3130560"/>
            <a:ext cx="158760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3300000">
            <a:off x="2804760" y="38725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k performed in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erformed using his own blood (reliable supply, but limited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comprehensive third party data available for current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8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rom our own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162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emolysis Interference in Modern Instruments Clin Biochem Revs 2000;21:12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162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cterus Interference in Modern Instruments Clin Biochem Revs 2000;21:12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terfer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158840"/>
            <a:ext cx="5715000" cy="569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73800" y="2971800"/>
            <a:ext cx="3670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oche Modular &lt;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aemo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aemolysate added to patient samples and concentrations measu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ing Interference Performance: Amylase and Haemo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405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93680" y="441972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emoglobin (mg/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895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4008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CPA-AACB Allowable Limits of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2438280"/>
            <a:ext cx="637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32200" y="5257800"/>
            <a:ext cx="637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2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523880" y="3733920"/>
            <a:ext cx="684360" cy="30456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06668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182880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82880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82880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82880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685800" cy="30456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2428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72428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410080"/>
            <a:ext cx="685800" cy="3049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295280"/>
            <a:ext cx="685800" cy="304920"/>
          </a:xfrm>
          <a:prstGeom prst="ellipse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295280"/>
            <a:ext cx="684000" cy="304920"/>
          </a:xfrm>
          <a:prstGeom prst="ellipse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1295280"/>
            <a:ext cx="685800" cy="304920"/>
          </a:xfrm>
          <a:prstGeom prst="ellipse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666880"/>
            <a:ext cx="685800" cy="304920"/>
          </a:xfrm>
          <a:prstGeom prst="ellipse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8686800" cy="38088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ment Compari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better than oth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ffected by inter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ferable between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room for improvement by manufactur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 of Haemolysis -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440" y="5410080"/>
            <a:ext cx="8400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tests where different instruments show wide variations in response to haemolysis (Data from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5457" t="4015" r="7271" b="7455"/>
          <a:stretch/>
        </p:blipFill>
        <p:spPr>
          <a:xfrm>
            <a:off x="5065560" y="1219320"/>
            <a:ext cx="3949920" cy="401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2858" t="1993" r="1429" b="6348"/>
          <a:stretch/>
        </p:blipFill>
        <p:spPr>
          <a:xfrm>
            <a:off x="0" y="1138320"/>
            <a:ext cx="51814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 Compari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ter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choosing methods which are less prone to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require third party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58440" y="1523880"/>
            <a:ext cx="7280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ing your 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your 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instr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Instr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instrument is chosen the fun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tocol must be set which allows appropriate response to samples with inter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detailed knowledge of your method / 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n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2723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52553" r="53109" b="0"/>
          <a:stretch/>
        </p:blipFill>
        <p:spPr>
          <a:xfrm>
            <a:off x="0" y="476280"/>
            <a:ext cx="774072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7360" y="5445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ympus Cholesterol Reagent and Modular Cholesterol Re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08720" y="691920"/>
            <a:ext cx="107928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25960" y="209520"/>
            <a:ext cx="2274840" cy="4597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lympu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3357720"/>
            <a:ext cx="863640" cy="71280"/>
          </a:xfrm>
          <a:prstGeom prst="line">
            <a:avLst/>
          </a:prstGeom>
          <a:ln w="38160">
            <a:solidFill>
              <a:srgbClr val="bc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59040" y="3160800"/>
            <a:ext cx="2358360" cy="459720"/>
          </a:xfrm>
          <a:prstGeom prst="rect">
            <a:avLst/>
          </a:prstGeom>
          <a:noFill/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3700"/>
                </a:solidFill>
                <a:latin typeface="Times New Roman"/>
              </a:rPr>
              <a:t>Modula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0" r="26902" b="0"/>
          <a:stretch/>
        </p:blipFill>
        <p:spPr>
          <a:xfrm>
            <a:off x="0" y="4437000"/>
            <a:ext cx="8244000" cy="232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5877000"/>
            <a:ext cx="7524720" cy="50472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84640"/>
            <a:ext cx="8893080" cy="72072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57360"/>
            <a:ext cx="8875800" cy="49356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67045" r="51193" b="0"/>
          <a:stretch/>
        </p:blipFill>
        <p:spPr>
          <a:xfrm>
            <a:off x="250920" y="1268280"/>
            <a:ext cx="7129440" cy="449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73600" y="1336680"/>
            <a:ext cx="1017360" cy="487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9400" y="476280"/>
            <a:ext cx="3826080" cy="825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lympus Results: 10% at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.5, 4.1 and 6.0 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068640"/>
            <a:ext cx="936720" cy="360360"/>
          </a:xfrm>
          <a:prstGeom prst="line">
            <a:avLst/>
          </a:prstGeom>
          <a:ln w="38160">
            <a:solidFill>
              <a:srgbClr val="bc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9040" y="3160800"/>
            <a:ext cx="2358360" cy="1191240"/>
          </a:xfrm>
          <a:prstGeom prst="rect">
            <a:avLst/>
          </a:prstGeom>
          <a:noFill/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3700"/>
                </a:solidFill>
                <a:latin typeface="Times New Roman"/>
              </a:rPr>
              <a:t>Modula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3700"/>
                </a:solidFill>
                <a:latin typeface="Times New Roman"/>
              </a:rPr>
              <a:t>10% at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3700"/>
                </a:solidFill>
                <a:latin typeface="Times New Roman"/>
              </a:rPr>
              <a:t>3.5 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40360" y="1374840"/>
            <a:ext cx="698400" cy="10461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1327320"/>
            <a:ext cx="298440" cy="13096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2781360"/>
            <a:ext cx="720720" cy="647640"/>
          </a:xfrm>
          <a:prstGeom prst="line">
            <a:avLst/>
          </a:prstGeom>
          <a:ln w="38160">
            <a:solidFill>
              <a:srgbClr val="bc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924280"/>
            <a:ext cx="72010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8280" y="582624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best expressed as absolute (not not perce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data is from your own 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periment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er information best when all result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ware of “No Interference” limits (eg 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of limits may not be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ccurate do we need to b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PA-AACB Quality Assurance li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greater than 2 SD of analytical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related to biological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xed percentage or absolut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fference that may lead to a change in clinical management - subjectiv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ro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25252"/>
          <a:stretch/>
        </p:blipFill>
        <p:spPr>
          <a:xfrm>
            <a:off x="1447920" y="1295280"/>
            <a:ext cx="6933960" cy="375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63640" y="5300640"/>
            <a:ext cx="100800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5300640"/>
            <a:ext cx="410544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8920" y="544356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.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5443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6021360"/>
            <a:ext cx="5040360" cy="0"/>
          </a:xfrm>
          <a:prstGeom prst="line">
            <a:avLst/>
          </a:prstGeom>
          <a:ln w="76320">
            <a:solidFill>
              <a:srgbClr val="00d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86000" y="6040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ccuracy - Utility Bal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067040" cy="1143000"/>
          </a:xfrm>
          <a:prstGeom prst="triangle">
            <a:avLst>
              <a:gd name="adj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523880" y="4723920"/>
            <a:ext cx="5257800" cy="685800"/>
          </a:xfrm>
          <a:prstGeom prst="line">
            <a:avLst/>
          </a:prstGeom>
          <a:ln w="76320">
            <a:solidFill>
              <a:srgbClr val="317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00200"/>
            <a:ext cx="286848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99"/>
                </a:solidFill>
                <a:uFillTx/>
                <a:latin typeface="Times New Roman"/>
              </a:rPr>
              <a:t>More accura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happier ptns and D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clinical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8680" y="2109960"/>
            <a:ext cx="3003120" cy="22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99"/>
                </a:solidFill>
                <a:uFillTx/>
                <a:latin typeface="Times New Roman"/>
              </a:rPr>
              <a:t>Less accura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re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re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er 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linical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76320">
            <a:solidFill>
              <a:srgbClr val="317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05720" y="4419720"/>
            <a:ext cx="0" cy="304560"/>
          </a:xfrm>
          <a:prstGeom prst="line">
            <a:avLst/>
          </a:prstGeom>
          <a:ln w="76320">
            <a:solidFill>
              <a:srgbClr val="317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aim: to produce timely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u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ults to allow optimal patient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ubstances present in a sample, or events affecting a sample, which lead to the production of inaccurat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sults which reflect the result which would have been obtained if the interference had not been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eren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asy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ll factors into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clinical effects is the main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ersonal opin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pathologist / clinician in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3234" r="0" b="0"/>
          <a:stretch/>
        </p:blipFill>
        <p:spPr>
          <a:xfrm>
            <a:off x="372960" y="149400"/>
            <a:ext cx="5234040" cy="655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15000" y="1143000"/>
            <a:ext cx="3357720" cy="2590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dPa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emoly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quality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um, heparin plasma, EDTA plasma, fluoride oxalate, Citrate, gel sepa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ole blood, as serum/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RT, 4 degrees, -20 deg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6248520" cy="461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81480" y="228600"/>
            <a:ext cx="3733920" cy="3657600"/>
          </a:xfrm>
          <a:prstGeom prst="wedgeEllipseCallout">
            <a:avLst>
              <a:gd name="adj1" fmla="val -105231"/>
              <a:gd name="adj2" fmla="val 3819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can I do that will make a difference to your busines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920" y="5894280"/>
            <a:ext cx="401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 supplier’s question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liers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data on interferences, sample types and analyte stability c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re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unnecessary re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repetition in multiple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fice, literature watch, lo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s and our response to them are part of providing a quality laborator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methods and instruments with low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methods where data is available about interferences or generate lo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 policy for responding to inter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erence 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lead to a clin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management with bad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-related clinical errors quite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linical errors require several mishaps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“near miss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n cost time, additional testing, reduced doctor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ror 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neous and Non-bel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potassium of 10.0 due to haemolysis or EDTA conta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ignore or recollect speci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neous and Bel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potassium of 5.5 due to haemolysis or EDTA conta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unnecessarily cease potassium 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Inter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39520" y="1680840"/>
            <a:ext cx="670068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-vitro haem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ipa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munoglobu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vents (eg delayed sepa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ther (artificial bl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Inter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39520" y="1680840"/>
            <a:ext cx="670068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-vitro haem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ipa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munoglobu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vents (eg delayed sepa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ther (artificial bl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5832360" cy="244800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1280" y="1573200"/>
            <a:ext cx="2571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The visible </a:t>
            </a:r>
            <a:br>
              <a:rPr sz="3000"/>
            </a:b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inter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n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sh to have accurat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sh to avoid errors due to inter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im to give out results when they are 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im to withhold results which are in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mplies different cutoff levels for different anal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your instr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6:10:46Z</dcterms:created>
  <dc:creator>Biochemistry</dc:creator>
  <dc:description/>
  <dc:language>en-US</dc:language>
  <cp:lastModifiedBy>gjones</cp:lastModifiedBy>
  <cp:lastPrinted>1997-02-16T16:20:38Z</cp:lastPrinted>
  <dcterms:modified xsi:type="dcterms:W3CDTF">2005-04-11T01:00:26Z</dcterms:modified>
  <cp:revision>61</cp:revision>
  <dc:subject/>
  <dc:title>Funny-coloured serum: what to do? (how to deal with common laboratory interferences)</dc:title>
</cp:coreProperties>
</file>