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A2B0-1FCB-449D-B044-00A52EACA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227160"/>
            <a:ext cx="841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3040" y="1066680"/>
            <a:ext cx="841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3040" y="3693600"/>
            <a:ext cx="841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E6E1-C6A7-425E-A060-222B6A2D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227160"/>
            <a:ext cx="841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3040" y="1066680"/>
            <a:ext cx="4107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6200" y="1066680"/>
            <a:ext cx="4107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3040" y="3693600"/>
            <a:ext cx="4107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6200" y="3693600"/>
            <a:ext cx="4107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B51A-C8BD-48C6-8803-9FD16F503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227160"/>
            <a:ext cx="841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3040" y="1066680"/>
            <a:ext cx="2710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8840" y="1066680"/>
            <a:ext cx="2710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5000" y="1066680"/>
            <a:ext cx="2710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3040" y="3693600"/>
            <a:ext cx="2710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8840" y="3693600"/>
            <a:ext cx="2710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5000" y="3693600"/>
            <a:ext cx="2710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79FC-E1CF-4DD8-85B3-921EA7939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227160"/>
            <a:ext cx="841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3040" y="1066680"/>
            <a:ext cx="841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DAD4-BE42-4A1A-94E5-1510303B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227160"/>
            <a:ext cx="841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3040" y="1066680"/>
            <a:ext cx="841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7DFF-B35F-4C86-8AF6-E7368D4F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227160"/>
            <a:ext cx="841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1066680"/>
            <a:ext cx="4107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6200" y="1066680"/>
            <a:ext cx="4107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8AC2-F05B-4651-8CF6-8477BD1E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227160"/>
            <a:ext cx="841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B4D6-F2A6-4455-A328-B326B431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416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1AD1-1275-41FC-92A4-2A6952F7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227160"/>
            <a:ext cx="841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3040" y="1066680"/>
            <a:ext cx="4107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6200" y="1066680"/>
            <a:ext cx="4107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3040" y="3693600"/>
            <a:ext cx="4107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3936-C9E6-4FEC-972F-77AD153D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227160"/>
            <a:ext cx="841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3040" y="1066680"/>
            <a:ext cx="4107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6200" y="1066680"/>
            <a:ext cx="4107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6200" y="3693600"/>
            <a:ext cx="4107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77B2-BFBF-4E70-A703-096E4657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227160"/>
            <a:ext cx="841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3040" y="1066680"/>
            <a:ext cx="4107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6200" y="1066680"/>
            <a:ext cx="4107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3040" y="3693600"/>
            <a:ext cx="841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A0CD-9BB9-403D-BC91-320A76EE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41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3040" y="1066680"/>
            <a:ext cx="841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629040"/>
            <a:ext cx="3137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ACC2004  </a:t>
            </a:r>
            <a:fld id="{315AC016-3188-41BE-A25A-05B1C45985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776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C251-95E4-431B-89F9-0B2091355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2971440"/>
            <a:ext cx="9219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000099"/>
                </a:solidFill>
                <a:latin typeface="Times New Roman"/>
              </a:rPr>
              <a:t>QUANTIFYING THE EFFECT OF SETTING QUALITY CONTROL STANDARD DEVIATIONS GREATER THAN ACTUAL STANDARD DEVIATIONS ON WESTGARD RULES</a:t>
            </a:r>
            <a:endParaRPr b="0" lang="en-US" sz="3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99840" y="5028840"/>
            <a:ext cx="693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ham J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partment of Chemical Pathology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 Vincent’s Hospital, Sydney, Australi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SVHS%20Crest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393560" cy="1752840"/>
          </a:xfrm>
          <a:prstGeom prst="rect">
            <a:avLst/>
          </a:prstGeom>
          <a:ln w="0">
            <a:noFill/>
          </a:ln>
        </p:spPr>
      </p:pic>
      <p:pic>
        <p:nvPicPr>
          <p:cNvPr id="44" name="SYDPATH2" descr=""/>
          <p:cNvPicPr/>
          <p:nvPr/>
        </p:nvPicPr>
        <p:blipFill>
          <a:blip r:embed="rId2"/>
          <a:stretch/>
        </p:blipFill>
        <p:spPr>
          <a:xfrm>
            <a:off x="6934320" y="380880"/>
            <a:ext cx="257472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51080" y="1052640"/>
            <a:ext cx="6629400" cy="38988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7080" y="260280"/>
            <a:ext cx="9524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Increasing QCSD / ASD: Effect on PED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11360" y="4557600"/>
            <a:ext cx="22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CSD / AS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873000" y="229464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62600" y="6335640"/>
            <a:ext cx="1297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7080" y="5300640"/>
            <a:ext cx="952488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ffect of increasing QCSD/ASD on the Power of Error Detection for various shifts in assay bias. Rules: 1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3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/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4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 n=2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imes New Roman"/>
              </a:rPr>
              <a:t>Conclus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PED falls as QCSD/ASD increas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54080" y="1509840"/>
            <a:ext cx="219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multiples of AS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2120" y="1023840"/>
            <a:ext cx="9140760" cy="35164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1440" y="260280"/>
            <a:ext cx="9067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Times New Roman"/>
              </a:rPr>
              <a:t>Increasing QCSD / ASD: Effect on ED</a:t>
            </a:r>
            <a:r>
              <a:rPr b="0" lang="en-US" sz="4200" spc="-1" strike="noStrike" baseline="-25000">
                <a:solidFill>
                  <a:srgbClr val="003399"/>
                </a:solidFill>
                <a:latin typeface="Times New Roman"/>
              </a:rPr>
              <a:t>90</a:t>
            </a:r>
            <a:endParaRPr b="0" lang="en-US" sz="4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01600" y="4365720"/>
            <a:ext cx="22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CSD / AS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159480" y="2467800"/>
            <a:ext cx="8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562600" y="6335640"/>
            <a:ext cx="1297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8360" y="4941720"/>
            <a:ext cx="950616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ffect of increasing QCSD/ASD on the Error Detection with 90% probability (E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for individual rules and combinations of rules. n=2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imes New Roman"/>
              </a:rPr>
              <a:t>Conclus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E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creases linearly with increasing QCSD/AS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04760" y="2421000"/>
            <a:ext cx="410796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 Narrow"/>
              </a:rPr>
              <a:t>3s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/2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 Narrow"/>
              </a:rPr>
              <a:t>2s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/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 Narrow"/>
              </a:rPr>
              <a:t>4s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ED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 Narrow"/>
              </a:rPr>
              <a:t>90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=2.3 x QCSD/ASD + 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 Narrow"/>
              </a:rPr>
              <a:t>2s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ED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 Narrow"/>
              </a:rPr>
              <a:t>90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=2.0 x QCSD/ASD + 1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 Narrow"/>
              </a:rPr>
              <a:t>3s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ED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 Narrow"/>
              </a:rPr>
              <a:t>90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=3.0 x QCSD/ASD + 0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26360" y="1863720"/>
            <a:ext cx="33904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D</a:t>
            </a:r>
            <a:r>
              <a:rPr b="0" lang="en-US" sz="2200" spc="-1" strike="noStrike" baseline="-25000">
                <a:solidFill>
                  <a:srgbClr val="003399"/>
                </a:solidFill>
                <a:latin typeface="Arial"/>
              </a:rPr>
              <a:t>90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Prediction Equ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39680" y="3730680"/>
            <a:ext cx="6172200" cy="2843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27160" y="692280"/>
            <a:ext cx="5867280" cy="29127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782960" y="1114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-162000" y="1845000"/>
            <a:ext cx="753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15228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Power Function Charts (bias, n=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13760" y="844560"/>
            <a:ext cx="2587320" cy="28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Effect of increasing QCSD / ASD on PED. N=4. Rules: 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n=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E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various rules. n=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9440" y="6248520"/>
            <a:ext cx="1297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47640" y="3321000"/>
            <a:ext cx="263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 (multiples of S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71920" y="1111320"/>
            <a:ext cx="107640" cy="1141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10000" y="1111320"/>
            <a:ext cx="10800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90880" y="1111320"/>
            <a:ext cx="108000" cy="1141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9480" y="1111320"/>
            <a:ext cx="108000" cy="1141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37240" y="1449360"/>
            <a:ext cx="127080" cy="1270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52800" y="1111320"/>
            <a:ext cx="108000" cy="11412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37240" y="1677960"/>
            <a:ext cx="127080" cy="12708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537240" y="2114640"/>
            <a:ext cx="127080" cy="127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543720" y="2319480"/>
            <a:ext cx="127080" cy="1267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41920" y="2525760"/>
            <a:ext cx="127080" cy="12708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51480" y="1368360"/>
            <a:ext cx="571680" cy="13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9880" y="920880"/>
            <a:ext cx="1732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QCSD/ASD  E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Narrow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81400" y="1111320"/>
            <a:ext cx="108000" cy="1141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39040" y="1906560"/>
            <a:ext cx="126720" cy="1270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75120" y="4137120"/>
            <a:ext cx="4775040" cy="21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 Narrow"/>
              </a:rPr>
              <a:t>3s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/2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 Narrow"/>
              </a:rPr>
              <a:t>2s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/4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 Narrow"/>
              </a:rPr>
              <a:t>1s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/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 Narrow"/>
              </a:rPr>
              <a:t>4s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  ED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 Narrow"/>
              </a:rPr>
              <a:t>90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=1.5 x QCSD/ASD + 0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 Narrow"/>
              </a:rPr>
              <a:t>3s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    ED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 Narrow"/>
              </a:rPr>
              <a:t>90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= 3.0 x QCSD/ASD - 0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 Narrow"/>
              </a:rPr>
              <a:t>2s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    ED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 Narrow"/>
              </a:rPr>
              <a:t>90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= 2.0 x QCSD/ASD + 0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 Narrow"/>
              </a:rPr>
              <a:t>1s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    ED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 Narrow"/>
              </a:rPr>
              <a:t>90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= 1.0 x QCSD/ASD +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6200000">
            <a:off x="-234000" y="4880880"/>
            <a:ext cx="8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7000" y="1074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5000" y="41115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74320" y="6348240"/>
            <a:ext cx="164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CSD / AS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64160" y="6253200"/>
            <a:ext cx="438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Conclus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imilar for n=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83360" y="3666960"/>
            <a:ext cx="33904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D</a:t>
            </a:r>
            <a:r>
              <a:rPr b="0" lang="en-US" sz="2200" spc="-1" strike="noStrike" baseline="-25000">
                <a:solidFill>
                  <a:srgbClr val="003399"/>
                </a:solidFill>
                <a:latin typeface="Arial"/>
              </a:rPr>
              <a:t>90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Prediction Equ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22760" y="4106880"/>
            <a:ext cx="5113440" cy="20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41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42680" y="1066680"/>
            <a:ext cx="870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tting the QCSD wider than the ASD in QC protocols affects the performance of Westgard rul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QCSD does not equal to ASD the published Power Function Charts do not accurately represent the power of error detec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boratories wishing to determine the power of error detection using published data must either set QCSD=ASD; apply corrections as outlined in this poster; or develop alternate methods to determine their own error detection power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41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43040" y="1066680"/>
            <a:ext cx="8781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87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estgard rules are commonly used to detect changes in assay performanc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187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Power of Error Detection (PED) of rules can be determined from available sources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187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se sources assume that the SD set in the QC protocol is the actual SD of the measurement syste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187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ometimes the SD in QC charts is set wider than the actual instrument SD (figure 1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187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ere I investigate the effect of setting QC limits wider than the actual SDs on the Power of Error Detec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www.westgard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17600" y="914400"/>
            <a:ext cx="4684680" cy="5334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41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Setting QC Limits - illustration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4280" y="4889520"/>
            <a:ext cx="435600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4280" y="2273400"/>
            <a:ext cx="434160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4280" y="2540160"/>
            <a:ext cx="4379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68440" y="2009880"/>
            <a:ext cx="4392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1040" y="5695920"/>
            <a:ext cx="4367160" cy="12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84280" y="4075200"/>
            <a:ext cx="435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1440" y="1488960"/>
            <a:ext cx="4951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C SD = Actual S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ead of QC results across rang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5% of results outside +/- 2S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51440" y="4114800"/>
            <a:ext cx="48020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C SD =  3 x Actual S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ame ASD as graph 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QC results clustered near mea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 results outside +/- 2S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490960" y="6272280"/>
            <a:ext cx="1297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960" y="390996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4440" y="470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0720" y="54943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920" y="180648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2240" y="2082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3320" y="2349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7960" y="114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7960" y="3733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41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Hypothesis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3040" y="1066320"/>
            <a:ext cx="8416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tting the SD limits in the Levy-Jennings QC chart different to the actual instrument SD limits will change the performance of the QC protocol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3048120"/>
            <a:ext cx="841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Ai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4114800"/>
            <a:ext cx="8416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investigate the utility of published Power Function Charts to determine the Power of Error Detection when the QCSD is larger than the Actual SD of the method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41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Terminology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3040" y="1066680"/>
            <a:ext cx="841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56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SD - The actual SD of the measurement syst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56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QCSD - The “SD” set in the QC package or drawn on Levy-Jennings char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56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ED: Power of Error Detection - the likelihood that a QC rule will trigger for any given assay drif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56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D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The error detected with a 90% probabilit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56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 baseline="-15000">
                <a:solidFill>
                  <a:srgbClr val="000000"/>
                </a:solidFill>
                <a:latin typeface="Times New Roman"/>
              </a:rPr>
              <a:t>3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- 1 result outside 3 S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56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 baseline="-15000">
                <a:solidFill>
                  <a:srgbClr val="000000"/>
                </a:solidFill>
                <a:latin typeface="Times New Roman"/>
              </a:rPr>
              <a:t>2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- 1 result outside 2 S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56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 baseline="-15000">
                <a:solidFill>
                  <a:srgbClr val="000000"/>
                </a:solidFill>
                <a:latin typeface="Times New Roman"/>
              </a:rPr>
              <a:t>2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- 2 results outside 2 S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56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000" spc="-1" strike="noStrike" baseline="-15000">
                <a:solidFill>
                  <a:srgbClr val="000000"/>
                </a:solidFill>
                <a:latin typeface="Times New Roman"/>
              </a:rPr>
              <a:t>1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- 4 consecutive results outside 1 S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56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 - the number of QC samples run at the same ti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41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Methodology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937260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wer Function Charts were developed in Microsoft Excel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variation was simulated using the random number generator with a normal distribution (n=100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as was simulated by adding fixed amounts to the randomly generated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imprecision were modelled by multiplying output from random number gener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 were modelled for n=2 and n=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bias and precision were model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n= 2, The 2</a:t>
            </a:r>
            <a:r>
              <a:rPr b="0" lang="en-US" sz="2800" spc="-1" strike="noStrike" baseline="-10000">
                <a:solidFill>
                  <a:srgbClr val="000000"/>
                </a:solidFill>
                <a:latin typeface="Times New Roman"/>
              </a:rPr>
              <a:t>2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ule was run within the pair of simultaneous Q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n=4, the 4</a:t>
            </a:r>
            <a:r>
              <a:rPr b="0" lang="en-US" sz="2800" spc="-1" strike="noStrike" baseline="-15000">
                <a:solidFill>
                  <a:srgbClr val="000000"/>
                </a:solidFill>
                <a:latin typeface="Times New Roman"/>
              </a:rPr>
              <a:t>1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ule was run on data from both materia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41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Results and Discussion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9524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5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creasing the QCSD relative to the ASD changes the Power Function Charts for detecting bias (n=2, figure 2; n=4, figure 6) and precision (n=2, figure 3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5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changes in bias the PED for various values of QCSD/ASD can be modelled (n=2, figure 4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5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changes in bias the ED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various values of QCSD/ASD can be modelled (n=2, fig 5; n=4, fig 6)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anges with QCSD/ASD at different rates for different rules and combinations of r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calculated for various rules from the data presented (see figures 5 and 6 for dat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63800" y="620640"/>
            <a:ext cx="6781680" cy="4264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543640" y="1547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16200000">
            <a:off x="672840" y="2672280"/>
            <a:ext cx="753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87320" y="13968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Power Function Chart (bias, n=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360" y="5013360"/>
            <a:ext cx="922032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ffect of increasing QCSD relative to ASD on Power of Error Detection (PED) for various changes in bias. Rules: 1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3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/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4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 n=2. E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used for later calculations (fig 5)</a:t>
            </a:r>
            <a:br>
              <a:rPr sz="2600"/>
            </a:br>
            <a:r>
              <a:rPr b="1" lang="en-US" sz="2600" spc="-1" strike="noStrike">
                <a:solidFill>
                  <a:srgbClr val="003399"/>
                </a:solidFill>
                <a:latin typeface="Times New Roman"/>
              </a:rPr>
              <a:t>Conclus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PED for bias falls as QCSD/ASD increas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9440" y="6248520"/>
            <a:ext cx="1297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68560" y="4554360"/>
            <a:ext cx="263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 (multiples of S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87880" y="1278000"/>
            <a:ext cx="152280" cy="152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0880" y="12780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11760" y="1278000"/>
            <a:ext cx="152640" cy="152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68960" y="1278000"/>
            <a:ext cx="152640" cy="15228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086680" y="1735200"/>
            <a:ext cx="152280" cy="152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45080" y="1278000"/>
            <a:ext cx="152280" cy="15228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86680" y="2039760"/>
            <a:ext cx="152280" cy="1526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086680" y="26496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86680" y="2954160"/>
            <a:ext cx="152280" cy="1526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86680" y="3259080"/>
            <a:ext cx="152280" cy="15228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769160" y="1671480"/>
            <a:ext cx="838440" cy="1866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634080" y="1125360"/>
            <a:ext cx="1938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QCSD/ASD    E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Narrow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50000" y="1278000"/>
            <a:ext cx="152280" cy="152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86680" y="2344680"/>
            <a:ext cx="152280" cy="152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927080" y="1052640"/>
            <a:ext cx="5766120" cy="33494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Power Function Charts (precision, n=2)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1155240" y="2653200"/>
            <a:ext cx="753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16360" y="4307040"/>
            <a:ext cx="317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ision (multiples of S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6000" y="4619520"/>
            <a:ext cx="902160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ffect of increasing QCSD / ASD  on the Power of Error Detection (PED) for changes in assay precision. Rules: 1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3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/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4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 N=2. Note: PED never reaches 90%.</a:t>
            </a:r>
            <a:br>
              <a:rPr sz="2600"/>
            </a:br>
            <a:r>
              <a:rPr b="1" lang="en-US" sz="2600" spc="-1" strike="noStrike">
                <a:solidFill>
                  <a:srgbClr val="003399"/>
                </a:solidFill>
                <a:latin typeface="Times New Roman"/>
              </a:rPr>
              <a:t>Conclus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PED for precision falls as QCSD/ASD increas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48960" y="156384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QCSD/AS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562600" y="6335640"/>
            <a:ext cx="1297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23:58:30Z</dcterms:created>
  <dc:creator>Graham Jones</dc:creator>
  <dc:description/>
  <dc:language>en-US</dc:language>
  <cp:lastModifiedBy>gjones</cp:lastModifiedBy>
  <dcterms:modified xsi:type="dcterms:W3CDTF">2004-07-22T06:50:48Z</dcterms:modified>
  <cp:revision>26</cp:revision>
  <dc:subject/>
  <dc:title>THE EFFECT OF EXPANDED STANDARD DEVIATION ON WESTGARD MULTI-RULES </dc:title>
</cp:coreProperties>
</file>